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151920" y="6409800"/>
            <a:ext cx="882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32C0F03E-8E92-4CEB-B948-C9997AB651F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Straight Connector 23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3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C44ECF31-1B84-4FC1-B6EF-E5408172CDE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Straight Connector 13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4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9DC74B75-791A-4EC9-B91E-FF27222F721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5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A6EFEEDB-2BEA-4695-8A5D-92E63DF74D9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6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04EEF5F2-F01B-4DE1-BC8B-39420CC8476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7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400E25E1-8F33-4A3C-89E3-073F6863F8F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Calibri"/>
              </a:rPr>
              <a:t>A CYBERINFRASTRUCTURE FOR T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Calibri"/>
              </a:rPr>
              <a:t>PLANT SCI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Calibri"/>
              </a:rPr>
              <a:t>RICHARD JORGENSEN, P.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Calibri"/>
              </a:rPr>
              <a:t>UNIVERSITY OF ARIZ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Calibri"/>
              </a:rPr>
              <a:t>The iPlant Collaborative</a:t>
            </a:r>
            <a:endParaRPr b="0" lang="en-US" sz="40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3416760" y="5181480"/>
            <a:ext cx="22532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Nirav Merchant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irav@email.arizona.ed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University of Arizon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635472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July 2009 : Data Preservation and Stewardship Track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912960" y="1904760"/>
            <a:ext cx="81086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988920" y="1571760"/>
            <a:ext cx="6705720" cy="452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63" name=""/>
          <p:cNvSpPr/>
          <p:nvPr/>
        </p:nvSpPr>
        <p:spPr>
          <a:xfrm>
            <a:off x="4145760" y="6400800"/>
            <a:ext cx="467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rew Sheneman, The Newark Star Ledg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Reality: A lot more to be done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Putting it all to work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366" name="Text Placeholder 1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414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67" name=""/>
          <p:cNvSpPr/>
          <p:nvPr/>
        </p:nvSpPr>
        <p:spPr>
          <a:xfrm>
            <a:off x="4220640" y="6400800"/>
            <a:ext cx="404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yne Stayskal, The Tampa Tribu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b9899"/>
                </a:solidFill>
                <a:latin typeface="Calibri"/>
              </a:rPr>
              <a:t>BioInformation</a:t>
            </a:r>
            <a:r>
              <a:rPr b="0" lang="en-US" sz="2900" spc="-1" strike="noStrike">
                <a:solidFill>
                  <a:srgbClr val="7b9899"/>
                </a:solidFill>
                <a:latin typeface="Calibri"/>
              </a:rPr>
              <a:t> :: Data Flavors</a:t>
            </a:r>
            <a:endParaRPr b="0" lang="en-US" sz="29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que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ructu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ud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ways (graph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bination (eg Video &amp; Trac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much more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Life scientist :: Data Wrestler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19720" y="167652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ume of data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lution of data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data repositories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 increasing analysis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ands to share, collaborate data (team sci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 you know where your data 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d your collaborators data 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10240" cy="435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5d1d7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Impact"/>
              </a:rPr>
              <a:t>got data ?</a:t>
            </a:r>
            <a:endParaRPr b="0" lang="en-US" sz="41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374" name="Text Placeholder 12" descr=""/>
          <p:cNvPicPr/>
          <p:nvPr/>
        </p:nvPicPr>
        <p:blipFill>
          <a:blip r:embed="rId1"/>
          <a:stretch/>
        </p:blipFill>
        <p:spPr>
          <a:xfrm>
            <a:off x="1452600" y="1676520"/>
            <a:ext cx="6315120" cy="43592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78520" y="6369120"/>
            <a:ext cx="41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not …Wait for the $1000 whole genom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Nucleic Acids Research 2008 Webserver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82A6C1F3-A217-4DEF-A306-F6BCF5D6791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1989000" y="1600200"/>
            <a:ext cx="516600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7391520" y="395928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94 Webserver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Nucleic Acids Research 2009 Database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5CF402AC-740F-4C94-8648-F09173E4FA9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496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7391520" y="395928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170 Database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299200" cy="41418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820960" y="22392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5d1d7"/>
                </a:solidFill>
                <a:latin typeface="Calibri"/>
              </a:rPr>
              <a:t>Get me connected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927080" y="1676520"/>
            <a:ext cx="5289840" cy="4168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27080" y="365040"/>
            <a:ext cx="61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5d1d7"/>
                </a:solidFill>
                <a:latin typeface="Calibri"/>
              </a:rPr>
              <a:t>Get me connected ….do no evi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52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7742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7b9899"/>
                </a:solidFill>
                <a:latin typeface="Calibri"/>
              </a:rPr>
              <a:t>Confluence of omics</a:t>
            </a:r>
            <a:endParaRPr b="0" lang="en-US" sz="27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2840040"/>
            <a:ext cx="3886200" cy="3030480"/>
          </a:xfrm>
          <a:custGeom>
            <a:avLst/>
            <a:gdLst/>
            <a:ahLst/>
            <a:rect l="l" t="t" r="r" b="b"/>
            <a:pathLst>
              <a:path w="10797" h="8416">
                <a:moveTo>
                  <a:pt x="6186" y="1262"/>
                </a:moveTo>
                <a:lnTo>
                  <a:pt x="5964" y="1238"/>
                </a:lnTo>
                <a:lnTo>
                  <a:pt x="5740" y="1221"/>
                </a:lnTo>
                <a:lnTo>
                  <a:pt x="5516" y="1213"/>
                </a:lnTo>
                <a:lnTo>
                  <a:pt x="5291" y="1213"/>
                </a:lnTo>
                <a:lnTo>
                  <a:pt x="5066" y="1221"/>
                </a:lnTo>
                <a:lnTo>
                  <a:pt x="4842" y="1237"/>
                </a:lnTo>
                <a:lnTo>
                  <a:pt x="4620" y="1261"/>
                </a:lnTo>
                <a:lnTo>
                  <a:pt x="4400" y="1293"/>
                </a:lnTo>
                <a:lnTo>
                  <a:pt x="4181" y="1333"/>
                </a:lnTo>
                <a:lnTo>
                  <a:pt x="3966" y="1380"/>
                </a:lnTo>
                <a:lnTo>
                  <a:pt x="3755" y="1435"/>
                </a:lnTo>
                <a:lnTo>
                  <a:pt x="3547" y="1498"/>
                </a:lnTo>
                <a:lnTo>
                  <a:pt x="3345" y="1569"/>
                </a:lnTo>
                <a:lnTo>
                  <a:pt x="3147" y="1646"/>
                </a:lnTo>
                <a:lnTo>
                  <a:pt x="2954" y="1731"/>
                </a:lnTo>
                <a:lnTo>
                  <a:pt x="2768" y="1822"/>
                </a:lnTo>
                <a:lnTo>
                  <a:pt x="2588" y="1920"/>
                </a:lnTo>
                <a:lnTo>
                  <a:pt x="2415" y="2024"/>
                </a:lnTo>
                <a:lnTo>
                  <a:pt x="2250" y="2134"/>
                </a:lnTo>
                <a:lnTo>
                  <a:pt x="2092" y="2251"/>
                </a:lnTo>
                <a:lnTo>
                  <a:pt x="1942" y="2372"/>
                </a:lnTo>
                <a:lnTo>
                  <a:pt x="1801" y="2499"/>
                </a:lnTo>
                <a:lnTo>
                  <a:pt x="1669" y="2631"/>
                </a:lnTo>
                <a:lnTo>
                  <a:pt x="1546" y="2768"/>
                </a:lnTo>
                <a:lnTo>
                  <a:pt x="1432" y="2908"/>
                </a:lnTo>
                <a:lnTo>
                  <a:pt x="1328" y="3053"/>
                </a:lnTo>
                <a:lnTo>
                  <a:pt x="1235" y="3201"/>
                </a:lnTo>
                <a:lnTo>
                  <a:pt x="1151" y="3353"/>
                </a:lnTo>
                <a:lnTo>
                  <a:pt x="1078" y="3507"/>
                </a:lnTo>
                <a:lnTo>
                  <a:pt x="1015" y="3664"/>
                </a:lnTo>
                <a:lnTo>
                  <a:pt x="964" y="3822"/>
                </a:lnTo>
                <a:lnTo>
                  <a:pt x="923" y="3983"/>
                </a:lnTo>
                <a:lnTo>
                  <a:pt x="893" y="4144"/>
                </a:lnTo>
                <a:lnTo>
                  <a:pt x="875" y="4307"/>
                </a:lnTo>
                <a:lnTo>
                  <a:pt x="867" y="4470"/>
                </a:lnTo>
                <a:lnTo>
                  <a:pt x="871" y="4633"/>
                </a:lnTo>
                <a:lnTo>
                  <a:pt x="886" y="4796"/>
                </a:lnTo>
                <a:lnTo>
                  <a:pt x="912" y="4958"/>
                </a:lnTo>
                <a:lnTo>
                  <a:pt x="949" y="5119"/>
                </a:lnTo>
                <a:lnTo>
                  <a:pt x="997" y="5278"/>
                </a:lnTo>
                <a:lnTo>
                  <a:pt x="1055" y="5436"/>
                </a:lnTo>
                <a:lnTo>
                  <a:pt x="1125" y="5591"/>
                </a:lnTo>
                <a:lnTo>
                  <a:pt x="1205" y="5743"/>
                </a:lnTo>
                <a:lnTo>
                  <a:pt x="1295" y="5892"/>
                </a:lnTo>
                <a:lnTo>
                  <a:pt x="1396" y="6038"/>
                </a:lnTo>
                <a:lnTo>
                  <a:pt x="1506" y="6180"/>
                </a:lnTo>
                <a:lnTo>
                  <a:pt x="1626" y="6318"/>
                </a:lnTo>
                <a:lnTo>
                  <a:pt x="1755" y="6452"/>
                </a:lnTo>
                <a:lnTo>
                  <a:pt x="1893" y="6581"/>
                </a:lnTo>
                <a:lnTo>
                  <a:pt x="2040" y="6704"/>
                </a:lnTo>
                <a:lnTo>
                  <a:pt x="2195" y="6822"/>
                </a:lnTo>
                <a:lnTo>
                  <a:pt x="2358" y="6935"/>
                </a:lnTo>
                <a:lnTo>
                  <a:pt x="2528" y="7041"/>
                </a:lnTo>
                <a:lnTo>
                  <a:pt x="2706" y="7141"/>
                </a:lnTo>
                <a:lnTo>
                  <a:pt x="2890" y="7235"/>
                </a:lnTo>
                <a:lnTo>
                  <a:pt x="3080" y="7322"/>
                </a:lnTo>
                <a:lnTo>
                  <a:pt x="3276" y="7402"/>
                </a:lnTo>
                <a:lnTo>
                  <a:pt x="3477" y="7474"/>
                </a:lnTo>
                <a:lnTo>
                  <a:pt x="3683" y="7540"/>
                </a:lnTo>
                <a:lnTo>
                  <a:pt x="3894" y="7598"/>
                </a:lnTo>
                <a:lnTo>
                  <a:pt x="4107" y="7648"/>
                </a:lnTo>
                <a:lnTo>
                  <a:pt x="4324" y="7691"/>
                </a:lnTo>
                <a:lnTo>
                  <a:pt x="4544" y="7725"/>
                </a:lnTo>
                <a:lnTo>
                  <a:pt x="4766" y="7752"/>
                </a:lnTo>
                <a:lnTo>
                  <a:pt x="4989" y="7771"/>
                </a:lnTo>
                <a:lnTo>
                  <a:pt x="5214" y="7781"/>
                </a:lnTo>
                <a:lnTo>
                  <a:pt x="5439" y="7784"/>
                </a:lnTo>
                <a:lnTo>
                  <a:pt x="5663" y="7778"/>
                </a:lnTo>
                <a:lnTo>
                  <a:pt x="5887" y="7765"/>
                </a:lnTo>
                <a:lnTo>
                  <a:pt x="6110" y="7743"/>
                </a:lnTo>
                <a:lnTo>
                  <a:pt x="6331" y="7713"/>
                </a:lnTo>
                <a:lnTo>
                  <a:pt x="6550" y="7676"/>
                </a:lnTo>
                <a:lnTo>
                  <a:pt x="6766" y="7630"/>
                </a:lnTo>
                <a:lnTo>
                  <a:pt x="6979" y="7577"/>
                </a:lnTo>
                <a:lnTo>
                  <a:pt x="7187" y="7516"/>
                </a:lnTo>
                <a:lnTo>
                  <a:pt x="7392" y="7448"/>
                </a:lnTo>
                <a:lnTo>
                  <a:pt x="7591" y="7373"/>
                </a:lnTo>
                <a:lnTo>
                  <a:pt x="7785" y="7290"/>
                </a:lnTo>
                <a:lnTo>
                  <a:pt x="7973" y="7201"/>
                </a:lnTo>
                <a:lnTo>
                  <a:pt x="8155" y="7105"/>
                </a:lnTo>
                <a:lnTo>
                  <a:pt x="8330" y="7003"/>
                </a:lnTo>
                <a:lnTo>
                  <a:pt x="8497" y="6894"/>
                </a:lnTo>
                <a:lnTo>
                  <a:pt x="8657" y="6779"/>
                </a:lnTo>
                <a:lnTo>
                  <a:pt x="8809" y="6659"/>
                </a:lnTo>
                <a:lnTo>
                  <a:pt x="8953" y="6534"/>
                </a:lnTo>
                <a:lnTo>
                  <a:pt x="9088" y="6403"/>
                </a:lnTo>
                <a:lnTo>
                  <a:pt x="9214" y="6268"/>
                </a:lnTo>
                <a:lnTo>
                  <a:pt x="9330" y="6128"/>
                </a:lnTo>
                <a:lnTo>
                  <a:pt x="9437" y="5985"/>
                </a:lnTo>
                <a:lnTo>
                  <a:pt x="9533" y="5838"/>
                </a:lnTo>
                <a:lnTo>
                  <a:pt x="9620" y="5687"/>
                </a:lnTo>
                <a:lnTo>
                  <a:pt x="9696" y="5534"/>
                </a:lnTo>
                <a:lnTo>
                  <a:pt x="9762" y="5378"/>
                </a:lnTo>
                <a:lnTo>
                  <a:pt x="9816" y="5219"/>
                </a:lnTo>
                <a:lnTo>
                  <a:pt x="9860" y="5059"/>
                </a:lnTo>
                <a:lnTo>
                  <a:pt x="9893" y="4898"/>
                </a:lnTo>
                <a:lnTo>
                  <a:pt x="9915" y="4736"/>
                </a:lnTo>
                <a:lnTo>
                  <a:pt x="9926" y="4573"/>
                </a:lnTo>
                <a:lnTo>
                  <a:pt x="9925" y="4410"/>
                </a:lnTo>
                <a:lnTo>
                  <a:pt x="9914" y="4247"/>
                </a:lnTo>
                <a:lnTo>
                  <a:pt x="9891" y="4085"/>
                </a:lnTo>
                <a:lnTo>
                  <a:pt x="9857" y="3923"/>
                </a:lnTo>
                <a:lnTo>
                  <a:pt x="9812" y="3764"/>
                </a:lnTo>
                <a:lnTo>
                  <a:pt x="9757" y="3606"/>
                </a:lnTo>
                <a:lnTo>
                  <a:pt x="9690" y="3450"/>
                </a:lnTo>
                <a:lnTo>
                  <a:pt x="9613" y="3296"/>
                </a:lnTo>
                <a:lnTo>
                  <a:pt x="9526" y="3146"/>
                </a:lnTo>
                <a:lnTo>
                  <a:pt x="9428" y="2999"/>
                </a:lnTo>
                <a:lnTo>
                  <a:pt x="9321" y="2856"/>
                </a:lnTo>
                <a:lnTo>
                  <a:pt x="9204" y="2717"/>
                </a:lnTo>
                <a:lnTo>
                  <a:pt x="9077" y="2582"/>
                </a:lnTo>
                <a:lnTo>
                  <a:pt x="9781" y="2213"/>
                </a:lnTo>
                <a:lnTo>
                  <a:pt x="9857" y="2292"/>
                </a:lnTo>
                <a:lnTo>
                  <a:pt x="9931" y="2373"/>
                </a:lnTo>
                <a:lnTo>
                  <a:pt x="10002" y="2455"/>
                </a:lnTo>
                <a:lnTo>
                  <a:pt x="10070" y="2538"/>
                </a:lnTo>
                <a:lnTo>
                  <a:pt x="10136" y="2622"/>
                </a:lnTo>
                <a:lnTo>
                  <a:pt x="10198" y="2708"/>
                </a:lnTo>
                <a:lnTo>
                  <a:pt x="10258" y="2794"/>
                </a:lnTo>
                <a:lnTo>
                  <a:pt x="10314" y="2882"/>
                </a:lnTo>
                <a:lnTo>
                  <a:pt x="10368" y="2971"/>
                </a:lnTo>
                <a:lnTo>
                  <a:pt x="10418" y="3060"/>
                </a:lnTo>
                <a:lnTo>
                  <a:pt x="10466" y="3151"/>
                </a:lnTo>
                <a:lnTo>
                  <a:pt x="10510" y="3242"/>
                </a:lnTo>
                <a:lnTo>
                  <a:pt x="10552" y="3334"/>
                </a:lnTo>
                <a:lnTo>
                  <a:pt x="10590" y="3427"/>
                </a:lnTo>
                <a:lnTo>
                  <a:pt x="10625" y="3520"/>
                </a:lnTo>
                <a:lnTo>
                  <a:pt x="10656" y="3614"/>
                </a:lnTo>
                <a:lnTo>
                  <a:pt x="10685" y="3708"/>
                </a:lnTo>
                <a:lnTo>
                  <a:pt x="10710" y="3803"/>
                </a:lnTo>
                <a:lnTo>
                  <a:pt x="10732" y="3899"/>
                </a:lnTo>
                <a:lnTo>
                  <a:pt x="10751" y="3995"/>
                </a:lnTo>
                <a:lnTo>
                  <a:pt x="10767" y="4091"/>
                </a:lnTo>
                <a:lnTo>
                  <a:pt x="10779" y="4187"/>
                </a:lnTo>
                <a:lnTo>
                  <a:pt x="10788" y="4284"/>
                </a:lnTo>
                <a:lnTo>
                  <a:pt x="10794" y="4380"/>
                </a:lnTo>
                <a:lnTo>
                  <a:pt x="10796" y="4477"/>
                </a:lnTo>
                <a:lnTo>
                  <a:pt x="10795" y="4574"/>
                </a:lnTo>
                <a:lnTo>
                  <a:pt x="10791" y="4670"/>
                </a:lnTo>
                <a:lnTo>
                  <a:pt x="10783" y="4767"/>
                </a:lnTo>
                <a:lnTo>
                  <a:pt x="10773" y="4863"/>
                </a:lnTo>
                <a:lnTo>
                  <a:pt x="10759" y="4960"/>
                </a:lnTo>
                <a:lnTo>
                  <a:pt x="10741" y="5056"/>
                </a:lnTo>
                <a:lnTo>
                  <a:pt x="10721" y="5151"/>
                </a:lnTo>
                <a:lnTo>
                  <a:pt x="10697" y="5246"/>
                </a:lnTo>
                <a:lnTo>
                  <a:pt x="10670" y="5341"/>
                </a:lnTo>
                <a:lnTo>
                  <a:pt x="10639" y="5435"/>
                </a:lnTo>
                <a:lnTo>
                  <a:pt x="10606" y="5529"/>
                </a:lnTo>
                <a:lnTo>
                  <a:pt x="10569" y="5622"/>
                </a:lnTo>
                <a:lnTo>
                  <a:pt x="10529" y="5714"/>
                </a:lnTo>
                <a:lnTo>
                  <a:pt x="10486" y="5806"/>
                </a:lnTo>
                <a:lnTo>
                  <a:pt x="10440" y="5897"/>
                </a:lnTo>
                <a:lnTo>
                  <a:pt x="10391" y="5987"/>
                </a:lnTo>
                <a:lnTo>
                  <a:pt x="10339" y="6076"/>
                </a:lnTo>
                <a:lnTo>
                  <a:pt x="10284" y="6164"/>
                </a:lnTo>
                <a:lnTo>
                  <a:pt x="10226" y="6251"/>
                </a:lnTo>
                <a:lnTo>
                  <a:pt x="10165" y="6337"/>
                </a:lnTo>
                <a:lnTo>
                  <a:pt x="10101" y="6422"/>
                </a:lnTo>
                <a:lnTo>
                  <a:pt x="10034" y="6505"/>
                </a:lnTo>
                <a:lnTo>
                  <a:pt x="9964" y="6588"/>
                </a:lnTo>
                <a:lnTo>
                  <a:pt x="9891" y="6669"/>
                </a:lnTo>
                <a:lnTo>
                  <a:pt x="9816" y="6749"/>
                </a:lnTo>
                <a:lnTo>
                  <a:pt x="9738" y="6827"/>
                </a:lnTo>
                <a:lnTo>
                  <a:pt x="9657" y="6905"/>
                </a:lnTo>
                <a:lnTo>
                  <a:pt x="9574" y="6980"/>
                </a:lnTo>
                <a:lnTo>
                  <a:pt x="9488" y="7054"/>
                </a:lnTo>
                <a:lnTo>
                  <a:pt x="9400" y="7127"/>
                </a:lnTo>
                <a:lnTo>
                  <a:pt x="9310" y="7198"/>
                </a:lnTo>
                <a:lnTo>
                  <a:pt x="9216" y="7267"/>
                </a:lnTo>
                <a:lnTo>
                  <a:pt x="9121" y="7335"/>
                </a:lnTo>
                <a:lnTo>
                  <a:pt x="9023" y="7400"/>
                </a:lnTo>
                <a:lnTo>
                  <a:pt x="8923" y="7465"/>
                </a:lnTo>
                <a:lnTo>
                  <a:pt x="8821" y="7527"/>
                </a:lnTo>
                <a:lnTo>
                  <a:pt x="8717" y="7587"/>
                </a:lnTo>
                <a:lnTo>
                  <a:pt x="8611" y="7646"/>
                </a:lnTo>
                <a:lnTo>
                  <a:pt x="8503" y="7702"/>
                </a:lnTo>
                <a:lnTo>
                  <a:pt x="8393" y="7757"/>
                </a:lnTo>
                <a:lnTo>
                  <a:pt x="8281" y="7810"/>
                </a:lnTo>
                <a:lnTo>
                  <a:pt x="8167" y="7860"/>
                </a:lnTo>
                <a:lnTo>
                  <a:pt x="8052" y="7909"/>
                </a:lnTo>
                <a:lnTo>
                  <a:pt x="7935" y="7956"/>
                </a:lnTo>
                <a:lnTo>
                  <a:pt x="7817" y="8000"/>
                </a:lnTo>
                <a:lnTo>
                  <a:pt x="7697" y="8042"/>
                </a:lnTo>
                <a:lnTo>
                  <a:pt x="7575" y="8082"/>
                </a:lnTo>
                <a:lnTo>
                  <a:pt x="7453" y="8120"/>
                </a:lnTo>
                <a:lnTo>
                  <a:pt x="7329" y="8156"/>
                </a:lnTo>
                <a:lnTo>
                  <a:pt x="7204" y="8189"/>
                </a:lnTo>
                <a:lnTo>
                  <a:pt x="7077" y="8221"/>
                </a:lnTo>
                <a:lnTo>
                  <a:pt x="6950" y="8250"/>
                </a:lnTo>
                <a:lnTo>
                  <a:pt x="6822" y="8276"/>
                </a:lnTo>
                <a:lnTo>
                  <a:pt x="6693" y="8301"/>
                </a:lnTo>
                <a:lnTo>
                  <a:pt x="6563" y="8323"/>
                </a:lnTo>
                <a:lnTo>
                  <a:pt x="6432" y="8342"/>
                </a:lnTo>
                <a:lnTo>
                  <a:pt x="6301" y="8360"/>
                </a:lnTo>
                <a:lnTo>
                  <a:pt x="6169" y="8375"/>
                </a:lnTo>
                <a:lnTo>
                  <a:pt x="6037" y="8387"/>
                </a:lnTo>
                <a:lnTo>
                  <a:pt x="5905" y="8398"/>
                </a:lnTo>
                <a:lnTo>
                  <a:pt x="5772" y="8406"/>
                </a:lnTo>
                <a:lnTo>
                  <a:pt x="5638" y="8411"/>
                </a:lnTo>
                <a:lnTo>
                  <a:pt x="5505" y="8414"/>
                </a:lnTo>
                <a:lnTo>
                  <a:pt x="5372" y="8415"/>
                </a:lnTo>
                <a:lnTo>
                  <a:pt x="5238" y="8413"/>
                </a:lnTo>
                <a:lnTo>
                  <a:pt x="5105" y="8409"/>
                </a:lnTo>
                <a:lnTo>
                  <a:pt x="4972" y="8403"/>
                </a:lnTo>
                <a:lnTo>
                  <a:pt x="4839" y="8394"/>
                </a:lnTo>
                <a:lnTo>
                  <a:pt x="4707" y="8383"/>
                </a:lnTo>
                <a:lnTo>
                  <a:pt x="4575" y="8369"/>
                </a:lnTo>
                <a:lnTo>
                  <a:pt x="4443" y="8353"/>
                </a:lnTo>
                <a:lnTo>
                  <a:pt x="4312" y="8335"/>
                </a:lnTo>
                <a:lnTo>
                  <a:pt x="4182" y="8314"/>
                </a:lnTo>
                <a:lnTo>
                  <a:pt x="4052" y="8291"/>
                </a:lnTo>
                <a:lnTo>
                  <a:pt x="3924" y="8266"/>
                </a:lnTo>
                <a:lnTo>
                  <a:pt x="3796" y="8239"/>
                </a:lnTo>
                <a:lnTo>
                  <a:pt x="3669" y="8209"/>
                </a:lnTo>
                <a:lnTo>
                  <a:pt x="3543" y="8177"/>
                </a:lnTo>
                <a:lnTo>
                  <a:pt x="3419" y="8142"/>
                </a:lnTo>
                <a:lnTo>
                  <a:pt x="3295" y="8106"/>
                </a:lnTo>
                <a:lnTo>
                  <a:pt x="3173" y="8067"/>
                </a:lnTo>
                <a:lnTo>
                  <a:pt x="3052" y="8026"/>
                </a:lnTo>
                <a:lnTo>
                  <a:pt x="2933" y="7983"/>
                </a:lnTo>
                <a:lnTo>
                  <a:pt x="2815" y="7938"/>
                </a:lnTo>
                <a:lnTo>
                  <a:pt x="2699" y="7890"/>
                </a:lnTo>
                <a:lnTo>
                  <a:pt x="2584" y="7841"/>
                </a:lnTo>
                <a:lnTo>
                  <a:pt x="2471" y="7789"/>
                </a:lnTo>
                <a:lnTo>
                  <a:pt x="2360" y="7736"/>
                </a:lnTo>
                <a:lnTo>
                  <a:pt x="2250" y="7680"/>
                </a:lnTo>
                <a:lnTo>
                  <a:pt x="2143" y="7623"/>
                </a:lnTo>
                <a:lnTo>
                  <a:pt x="2038" y="7564"/>
                </a:lnTo>
                <a:lnTo>
                  <a:pt x="1934" y="7503"/>
                </a:lnTo>
                <a:lnTo>
                  <a:pt x="1833" y="7440"/>
                </a:lnTo>
                <a:lnTo>
                  <a:pt x="1734" y="7375"/>
                </a:lnTo>
                <a:lnTo>
                  <a:pt x="1637" y="7308"/>
                </a:lnTo>
                <a:lnTo>
                  <a:pt x="1543" y="7240"/>
                </a:lnTo>
                <a:lnTo>
                  <a:pt x="1451" y="7170"/>
                </a:lnTo>
                <a:lnTo>
                  <a:pt x="1361" y="7098"/>
                </a:lnTo>
                <a:lnTo>
                  <a:pt x="1274" y="7025"/>
                </a:lnTo>
                <a:lnTo>
                  <a:pt x="1189" y="6951"/>
                </a:lnTo>
                <a:lnTo>
                  <a:pt x="1107" y="6874"/>
                </a:lnTo>
                <a:lnTo>
                  <a:pt x="1027" y="6797"/>
                </a:lnTo>
                <a:lnTo>
                  <a:pt x="950" y="6718"/>
                </a:lnTo>
                <a:lnTo>
                  <a:pt x="876" y="6637"/>
                </a:lnTo>
                <a:lnTo>
                  <a:pt x="804" y="6556"/>
                </a:lnTo>
                <a:lnTo>
                  <a:pt x="736" y="6473"/>
                </a:lnTo>
                <a:lnTo>
                  <a:pt x="670" y="6389"/>
                </a:lnTo>
                <a:lnTo>
                  <a:pt x="607" y="6303"/>
                </a:lnTo>
                <a:lnTo>
                  <a:pt x="547" y="6217"/>
                </a:lnTo>
                <a:lnTo>
                  <a:pt x="490" y="6129"/>
                </a:lnTo>
                <a:lnTo>
                  <a:pt x="436" y="6041"/>
                </a:lnTo>
                <a:lnTo>
                  <a:pt x="385" y="5952"/>
                </a:lnTo>
                <a:lnTo>
                  <a:pt x="337" y="5861"/>
                </a:lnTo>
                <a:lnTo>
                  <a:pt x="292" y="5770"/>
                </a:lnTo>
                <a:lnTo>
                  <a:pt x="251" y="5678"/>
                </a:lnTo>
                <a:lnTo>
                  <a:pt x="212" y="5586"/>
                </a:lnTo>
                <a:lnTo>
                  <a:pt x="177" y="5492"/>
                </a:lnTo>
                <a:lnTo>
                  <a:pt x="144" y="5398"/>
                </a:lnTo>
                <a:lnTo>
                  <a:pt x="115" y="5304"/>
                </a:lnTo>
                <a:lnTo>
                  <a:pt x="89" y="5209"/>
                </a:lnTo>
                <a:lnTo>
                  <a:pt x="67" y="5114"/>
                </a:lnTo>
                <a:lnTo>
                  <a:pt x="48" y="5018"/>
                </a:lnTo>
                <a:lnTo>
                  <a:pt x="32" y="4922"/>
                </a:lnTo>
                <a:lnTo>
                  <a:pt x="19" y="4826"/>
                </a:lnTo>
                <a:lnTo>
                  <a:pt x="9" y="4729"/>
                </a:lnTo>
                <a:lnTo>
                  <a:pt x="3" y="4633"/>
                </a:lnTo>
                <a:lnTo>
                  <a:pt x="0" y="4536"/>
                </a:lnTo>
                <a:lnTo>
                  <a:pt x="1" y="4439"/>
                </a:lnTo>
                <a:lnTo>
                  <a:pt x="4" y="4342"/>
                </a:lnTo>
                <a:lnTo>
                  <a:pt x="11" y="4246"/>
                </a:lnTo>
                <a:lnTo>
                  <a:pt x="22" y="4149"/>
                </a:lnTo>
                <a:lnTo>
                  <a:pt x="35" y="4053"/>
                </a:lnTo>
                <a:lnTo>
                  <a:pt x="52" y="3957"/>
                </a:lnTo>
                <a:lnTo>
                  <a:pt x="72" y="3861"/>
                </a:lnTo>
                <a:lnTo>
                  <a:pt x="95" y="3766"/>
                </a:lnTo>
                <a:lnTo>
                  <a:pt x="122" y="3671"/>
                </a:lnTo>
                <a:lnTo>
                  <a:pt x="152" y="3577"/>
                </a:lnTo>
                <a:lnTo>
                  <a:pt x="185" y="3483"/>
                </a:lnTo>
                <a:lnTo>
                  <a:pt x="221" y="3390"/>
                </a:lnTo>
                <a:lnTo>
                  <a:pt x="260" y="3298"/>
                </a:lnTo>
                <a:lnTo>
                  <a:pt x="303" y="3206"/>
                </a:lnTo>
                <a:lnTo>
                  <a:pt x="348" y="3115"/>
                </a:lnTo>
                <a:lnTo>
                  <a:pt x="397" y="3025"/>
                </a:lnTo>
                <a:lnTo>
                  <a:pt x="449" y="2936"/>
                </a:lnTo>
                <a:lnTo>
                  <a:pt x="503" y="2848"/>
                </a:lnTo>
                <a:lnTo>
                  <a:pt x="561" y="2760"/>
                </a:lnTo>
                <a:lnTo>
                  <a:pt x="622" y="2674"/>
                </a:lnTo>
                <a:lnTo>
                  <a:pt x="686" y="2589"/>
                </a:lnTo>
                <a:lnTo>
                  <a:pt x="752" y="2505"/>
                </a:lnTo>
                <a:lnTo>
                  <a:pt x="821" y="2423"/>
                </a:lnTo>
                <a:lnTo>
                  <a:pt x="893" y="2341"/>
                </a:lnTo>
                <a:lnTo>
                  <a:pt x="968" y="2261"/>
                </a:lnTo>
                <a:lnTo>
                  <a:pt x="1046" y="2182"/>
                </a:lnTo>
                <a:lnTo>
                  <a:pt x="1126" y="2105"/>
                </a:lnTo>
                <a:lnTo>
                  <a:pt x="1209" y="2029"/>
                </a:lnTo>
                <a:lnTo>
                  <a:pt x="1294" y="1955"/>
                </a:lnTo>
                <a:lnTo>
                  <a:pt x="1382" y="1882"/>
                </a:lnTo>
                <a:lnTo>
                  <a:pt x="1472" y="1811"/>
                </a:lnTo>
                <a:lnTo>
                  <a:pt x="1565" y="1742"/>
                </a:lnTo>
                <a:lnTo>
                  <a:pt x="1660" y="1674"/>
                </a:lnTo>
                <a:lnTo>
                  <a:pt x="1758" y="1608"/>
                </a:lnTo>
                <a:lnTo>
                  <a:pt x="1857" y="1543"/>
                </a:lnTo>
                <a:lnTo>
                  <a:pt x="1959" y="1481"/>
                </a:lnTo>
                <a:lnTo>
                  <a:pt x="2063" y="1420"/>
                </a:lnTo>
                <a:lnTo>
                  <a:pt x="2169" y="1361"/>
                </a:lnTo>
                <a:lnTo>
                  <a:pt x="2276" y="1304"/>
                </a:lnTo>
                <a:lnTo>
                  <a:pt x="2386" y="1249"/>
                </a:lnTo>
                <a:lnTo>
                  <a:pt x="2498" y="1196"/>
                </a:lnTo>
                <a:lnTo>
                  <a:pt x="2611" y="1145"/>
                </a:lnTo>
                <a:lnTo>
                  <a:pt x="2726" y="1096"/>
                </a:lnTo>
                <a:lnTo>
                  <a:pt x="2843" y="1049"/>
                </a:lnTo>
                <a:lnTo>
                  <a:pt x="2961" y="1005"/>
                </a:lnTo>
                <a:lnTo>
                  <a:pt x="3081" y="962"/>
                </a:lnTo>
                <a:lnTo>
                  <a:pt x="3202" y="922"/>
                </a:lnTo>
                <a:lnTo>
                  <a:pt x="3325" y="883"/>
                </a:lnTo>
                <a:lnTo>
                  <a:pt x="3448" y="847"/>
                </a:lnTo>
                <a:lnTo>
                  <a:pt x="3573" y="814"/>
                </a:lnTo>
                <a:lnTo>
                  <a:pt x="3699" y="782"/>
                </a:lnTo>
                <a:lnTo>
                  <a:pt x="3826" y="753"/>
                </a:lnTo>
                <a:lnTo>
                  <a:pt x="3955" y="726"/>
                </a:lnTo>
                <a:lnTo>
                  <a:pt x="4083" y="701"/>
                </a:lnTo>
                <a:lnTo>
                  <a:pt x="4213" y="678"/>
                </a:lnTo>
                <a:lnTo>
                  <a:pt x="4344" y="658"/>
                </a:lnTo>
                <a:lnTo>
                  <a:pt x="4475" y="641"/>
                </a:lnTo>
                <a:lnTo>
                  <a:pt x="4606" y="625"/>
                </a:lnTo>
                <a:lnTo>
                  <a:pt x="4739" y="612"/>
                </a:lnTo>
                <a:lnTo>
                  <a:pt x="4871" y="602"/>
                </a:lnTo>
                <a:lnTo>
                  <a:pt x="5004" y="593"/>
                </a:lnTo>
                <a:lnTo>
                  <a:pt x="5137" y="588"/>
                </a:lnTo>
                <a:lnTo>
                  <a:pt x="5270" y="584"/>
                </a:lnTo>
                <a:lnTo>
                  <a:pt x="5404" y="583"/>
                </a:lnTo>
                <a:lnTo>
                  <a:pt x="5537" y="584"/>
                </a:lnTo>
                <a:lnTo>
                  <a:pt x="5670" y="588"/>
                </a:lnTo>
                <a:lnTo>
                  <a:pt x="5804" y="594"/>
                </a:lnTo>
                <a:lnTo>
                  <a:pt x="5936" y="603"/>
                </a:lnTo>
                <a:lnTo>
                  <a:pt x="6069" y="613"/>
                </a:lnTo>
                <a:lnTo>
                  <a:pt x="6201" y="627"/>
                </a:lnTo>
                <a:lnTo>
                  <a:pt x="6333" y="642"/>
                </a:lnTo>
                <a:lnTo>
                  <a:pt x="6489" y="0"/>
                </a:lnTo>
                <a:lnTo>
                  <a:pt x="7543" y="1251"/>
                </a:lnTo>
                <a:lnTo>
                  <a:pt x="6027" y="1904"/>
                </a:lnTo>
                <a:lnTo>
                  <a:pt x="6186" y="126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1830240"/>
            <a:ext cx="3886200" cy="2086200"/>
          </a:xfrm>
          <a:custGeom>
            <a:avLst/>
            <a:gdLst/>
            <a:ahLst/>
            <a:rect l="l" t="t" r="r" b="b"/>
            <a:pathLst>
              <a:path w="10797" h="5795">
                <a:moveTo>
                  <a:pt x="7575" y="5001"/>
                </a:moveTo>
                <a:lnTo>
                  <a:pt x="7774" y="4940"/>
                </a:lnTo>
                <a:lnTo>
                  <a:pt x="7968" y="4875"/>
                </a:lnTo>
                <a:lnTo>
                  <a:pt x="8155" y="4804"/>
                </a:lnTo>
                <a:lnTo>
                  <a:pt x="8336" y="4729"/>
                </a:lnTo>
                <a:lnTo>
                  <a:pt x="8509" y="4649"/>
                </a:lnTo>
                <a:lnTo>
                  <a:pt x="8674" y="4564"/>
                </a:lnTo>
                <a:lnTo>
                  <a:pt x="8831" y="4475"/>
                </a:lnTo>
                <a:lnTo>
                  <a:pt x="8979" y="4382"/>
                </a:lnTo>
                <a:lnTo>
                  <a:pt x="9119" y="4286"/>
                </a:lnTo>
                <a:lnTo>
                  <a:pt x="9249" y="4185"/>
                </a:lnTo>
                <a:lnTo>
                  <a:pt x="9370" y="4082"/>
                </a:lnTo>
                <a:lnTo>
                  <a:pt x="9480" y="3975"/>
                </a:lnTo>
                <a:lnTo>
                  <a:pt x="9581" y="3865"/>
                </a:lnTo>
                <a:lnTo>
                  <a:pt x="9671" y="3753"/>
                </a:lnTo>
                <a:lnTo>
                  <a:pt x="9750" y="3639"/>
                </a:lnTo>
                <a:lnTo>
                  <a:pt x="9819" y="3523"/>
                </a:lnTo>
                <a:lnTo>
                  <a:pt x="9876" y="3405"/>
                </a:lnTo>
                <a:lnTo>
                  <a:pt x="9922" y="3286"/>
                </a:lnTo>
                <a:lnTo>
                  <a:pt x="9957" y="3166"/>
                </a:lnTo>
                <a:lnTo>
                  <a:pt x="9980" y="3045"/>
                </a:lnTo>
                <a:lnTo>
                  <a:pt x="9992" y="2923"/>
                </a:lnTo>
                <a:lnTo>
                  <a:pt x="9993" y="2801"/>
                </a:lnTo>
                <a:lnTo>
                  <a:pt x="9982" y="2680"/>
                </a:lnTo>
                <a:lnTo>
                  <a:pt x="9959" y="2559"/>
                </a:lnTo>
                <a:lnTo>
                  <a:pt x="9925" y="2438"/>
                </a:lnTo>
                <a:lnTo>
                  <a:pt x="9880" y="2319"/>
                </a:lnTo>
                <a:lnTo>
                  <a:pt x="9824" y="2201"/>
                </a:lnTo>
                <a:lnTo>
                  <a:pt x="9756" y="2085"/>
                </a:lnTo>
                <a:lnTo>
                  <a:pt x="9678" y="1970"/>
                </a:lnTo>
                <a:lnTo>
                  <a:pt x="9589" y="1858"/>
                </a:lnTo>
                <a:lnTo>
                  <a:pt x="9489" y="1748"/>
                </a:lnTo>
                <a:lnTo>
                  <a:pt x="9379" y="1641"/>
                </a:lnTo>
                <a:lnTo>
                  <a:pt x="9260" y="1537"/>
                </a:lnTo>
                <a:lnTo>
                  <a:pt x="9130" y="1437"/>
                </a:lnTo>
                <a:lnTo>
                  <a:pt x="8992" y="1340"/>
                </a:lnTo>
                <a:lnTo>
                  <a:pt x="8844" y="1246"/>
                </a:lnTo>
                <a:lnTo>
                  <a:pt x="8687" y="1157"/>
                </a:lnTo>
                <a:lnTo>
                  <a:pt x="8523" y="1072"/>
                </a:lnTo>
                <a:lnTo>
                  <a:pt x="8350" y="992"/>
                </a:lnTo>
                <a:lnTo>
                  <a:pt x="8171" y="916"/>
                </a:lnTo>
                <a:lnTo>
                  <a:pt x="7984" y="845"/>
                </a:lnTo>
                <a:lnTo>
                  <a:pt x="7791" y="779"/>
                </a:lnTo>
                <a:lnTo>
                  <a:pt x="7592" y="718"/>
                </a:lnTo>
                <a:lnTo>
                  <a:pt x="7387" y="663"/>
                </a:lnTo>
                <a:lnTo>
                  <a:pt x="7177" y="613"/>
                </a:lnTo>
                <a:lnTo>
                  <a:pt x="6963" y="569"/>
                </a:lnTo>
                <a:lnTo>
                  <a:pt x="6745" y="530"/>
                </a:lnTo>
                <a:lnTo>
                  <a:pt x="6524" y="497"/>
                </a:lnTo>
                <a:lnTo>
                  <a:pt x="6300" y="470"/>
                </a:lnTo>
                <a:lnTo>
                  <a:pt x="6073" y="449"/>
                </a:lnTo>
                <a:lnTo>
                  <a:pt x="5845" y="435"/>
                </a:lnTo>
                <a:lnTo>
                  <a:pt x="5616" y="426"/>
                </a:lnTo>
                <a:lnTo>
                  <a:pt x="5386" y="423"/>
                </a:lnTo>
                <a:lnTo>
                  <a:pt x="5156" y="426"/>
                </a:lnTo>
                <a:lnTo>
                  <a:pt x="4927" y="436"/>
                </a:lnTo>
                <a:lnTo>
                  <a:pt x="4699" y="451"/>
                </a:lnTo>
                <a:lnTo>
                  <a:pt x="4473" y="473"/>
                </a:lnTo>
                <a:lnTo>
                  <a:pt x="4249" y="500"/>
                </a:lnTo>
                <a:lnTo>
                  <a:pt x="4028" y="534"/>
                </a:lnTo>
                <a:lnTo>
                  <a:pt x="3810" y="573"/>
                </a:lnTo>
                <a:lnTo>
                  <a:pt x="3596" y="618"/>
                </a:lnTo>
                <a:lnTo>
                  <a:pt x="3387" y="668"/>
                </a:lnTo>
                <a:lnTo>
                  <a:pt x="3183" y="724"/>
                </a:lnTo>
                <a:lnTo>
                  <a:pt x="2984" y="785"/>
                </a:lnTo>
                <a:lnTo>
                  <a:pt x="2792" y="852"/>
                </a:lnTo>
                <a:lnTo>
                  <a:pt x="2606" y="923"/>
                </a:lnTo>
                <a:lnTo>
                  <a:pt x="2427" y="999"/>
                </a:lnTo>
                <a:lnTo>
                  <a:pt x="2255" y="1080"/>
                </a:lnTo>
                <a:lnTo>
                  <a:pt x="2091" y="1166"/>
                </a:lnTo>
                <a:lnTo>
                  <a:pt x="1936" y="1255"/>
                </a:lnTo>
                <a:lnTo>
                  <a:pt x="1789" y="1349"/>
                </a:lnTo>
                <a:lnTo>
                  <a:pt x="1651" y="1446"/>
                </a:lnTo>
                <a:lnTo>
                  <a:pt x="1522" y="1547"/>
                </a:lnTo>
                <a:lnTo>
                  <a:pt x="1403" y="1651"/>
                </a:lnTo>
                <a:lnTo>
                  <a:pt x="1295" y="1759"/>
                </a:lnTo>
                <a:lnTo>
                  <a:pt x="1196" y="1869"/>
                </a:lnTo>
                <a:lnTo>
                  <a:pt x="1108" y="1981"/>
                </a:lnTo>
                <a:lnTo>
                  <a:pt x="1031" y="2096"/>
                </a:lnTo>
                <a:lnTo>
                  <a:pt x="964" y="2212"/>
                </a:lnTo>
                <a:lnTo>
                  <a:pt x="909" y="2330"/>
                </a:lnTo>
                <a:lnTo>
                  <a:pt x="865" y="2450"/>
                </a:lnTo>
                <a:lnTo>
                  <a:pt x="832" y="2570"/>
                </a:lnTo>
                <a:lnTo>
                  <a:pt x="811" y="2691"/>
                </a:lnTo>
                <a:lnTo>
                  <a:pt x="801" y="2813"/>
                </a:lnTo>
                <a:lnTo>
                  <a:pt x="802" y="2935"/>
                </a:lnTo>
                <a:lnTo>
                  <a:pt x="815" y="3056"/>
                </a:lnTo>
                <a:lnTo>
                  <a:pt x="840" y="3177"/>
                </a:lnTo>
                <a:lnTo>
                  <a:pt x="876" y="3297"/>
                </a:lnTo>
                <a:lnTo>
                  <a:pt x="923" y="3417"/>
                </a:lnTo>
                <a:lnTo>
                  <a:pt x="982" y="3534"/>
                </a:lnTo>
                <a:lnTo>
                  <a:pt x="1051" y="3650"/>
                </a:lnTo>
                <a:lnTo>
                  <a:pt x="1131" y="3764"/>
                </a:lnTo>
                <a:lnTo>
                  <a:pt x="386" y="3918"/>
                </a:lnTo>
                <a:lnTo>
                  <a:pt x="338" y="3852"/>
                </a:lnTo>
                <a:lnTo>
                  <a:pt x="293" y="3786"/>
                </a:lnTo>
                <a:lnTo>
                  <a:pt x="251" y="3719"/>
                </a:lnTo>
                <a:lnTo>
                  <a:pt x="213" y="3651"/>
                </a:lnTo>
                <a:lnTo>
                  <a:pt x="177" y="3583"/>
                </a:lnTo>
                <a:lnTo>
                  <a:pt x="145" y="3515"/>
                </a:lnTo>
                <a:lnTo>
                  <a:pt x="116" y="3446"/>
                </a:lnTo>
                <a:lnTo>
                  <a:pt x="90" y="3376"/>
                </a:lnTo>
                <a:lnTo>
                  <a:pt x="67" y="3307"/>
                </a:lnTo>
                <a:lnTo>
                  <a:pt x="48" y="3237"/>
                </a:lnTo>
                <a:lnTo>
                  <a:pt x="32" y="3167"/>
                </a:lnTo>
                <a:lnTo>
                  <a:pt x="19" y="3096"/>
                </a:lnTo>
                <a:lnTo>
                  <a:pt x="9" y="3026"/>
                </a:lnTo>
                <a:lnTo>
                  <a:pt x="3" y="2955"/>
                </a:lnTo>
                <a:lnTo>
                  <a:pt x="0" y="2885"/>
                </a:lnTo>
                <a:lnTo>
                  <a:pt x="1" y="2814"/>
                </a:lnTo>
                <a:lnTo>
                  <a:pt x="4" y="2743"/>
                </a:lnTo>
                <a:lnTo>
                  <a:pt x="11" y="2673"/>
                </a:lnTo>
                <a:lnTo>
                  <a:pt x="21" y="2602"/>
                </a:lnTo>
                <a:lnTo>
                  <a:pt x="35" y="2532"/>
                </a:lnTo>
                <a:lnTo>
                  <a:pt x="52" y="2462"/>
                </a:lnTo>
                <a:lnTo>
                  <a:pt x="72" y="2392"/>
                </a:lnTo>
                <a:lnTo>
                  <a:pt x="95" y="2323"/>
                </a:lnTo>
                <a:lnTo>
                  <a:pt x="122" y="2253"/>
                </a:lnTo>
                <a:lnTo>
                  <a:pt x="152" y="2185"/>
                </a:lnTo>
                <a:lnTo>
                  <a:pt x="185" y="2116"/>
                </a:lnTo>
                <a:lnTo>
                  <a:pt x="221" y="2048"/>
                </a:lnTo>
                <a:lnTo>
                  <a:pt x="260" y="1981"/>
                </a:lnTo>
                <a:lnTo>
                  <a:pt x="303" y="1914"/>
                </a:lnTo>
                <a:lnTo>
                  <a:pt x="348" y="1847"/>
                </a:lnTo>
                <a:lnTo>
                  <a:pt x="397" y="1782"/>
                </a:lnTo>
                <a:lnTo>
                  <a:pt x="449" y="1716"/>
                </a:lnTo>
                <a:lnTo>
                  <a:pt x="504" y="1652"/>
                </a:lnTo>
                <a:lnTo>
                  <a:pt x="561" y="1588"/>
                </a:lnTo>
                <a:lnTo>
                  <a:pt x="622" y="1525"/>
                </a:lnTo>
                <a:lnTo>
                  <a:pt x="686" y="1463"/>
                </a:lnTo>
                <a:lnTo>
                  <a:pt x="752" y="1402"/>
                </a:lnTo>
                <a:lnTo>
                  <a:pt x="822" y="1342"/>
                </a:lnTo>
                <a:lnTo>
                  <a:pt x="894" y="1282"/>
                </a:lnTo>
                <a:lnTo>
                  <a:pt x="969" y="1224"/>
                </a:lnTo>
                <a:lnTo>
                  <a:pt x="1047" y="1166"/>
                </a:lnTo>
                <a:lnTo>
                  <a:pt x="1127" y="1110"/>
                </a:lnTo>
                <a:lnTo>
                  <a:pt x="1210" y="1055"/>
                </a:lnTo>
                <a:lnTo>
                  <a:pt x="1295" y="1000"/>
                </a:lnTo>
                <a:lnTo>
                  <a:pt x="1383" y="947"/>
                </a:lnTo>
                <a:lnTo>
                  <a:pt x="1474" y="895"/>
                </a:lnTo>
                <a:lnTo>
                  <a:pt x="1567" y="844"/>
                </a:lnTo>
                <a:lnTo>
                  <a:pt x="1662" y="795"/>
                </a:lnTo>
                <a:lnTo>
                  <a:pt x="1759" y="747"/>
                </a:lnTo>
                <a:lnTo>
                  <a:pt x="1859" y="700"/>
                </a:lnTo>
                <a:lnTo>
                  <a:pt x="1961" y="654"/>
                </a:lnTo>
                <a:lnTo>
                  <a:pt x="2065" y="610"/>
                </a:lnTo>
                <a:lnTo>
                  <a:pt x="2171" y="567"/>
                </a:lnTo>
                <a:lnTo>
                  <a:pt x="2279" y="525"/>
                </a:lnTo>
                <a:lnTo>
                  <a:pt x="2389" y="485"/>
                </a:lnTo>
                <a:lnTo>
                  <a:pt x="2500" y="447"/>
                </a:lnTo>
                <a:lnTo>
                  <a:pt x="2614" y="409"/>
                </a:lnTo>
                <a:lnTo>
                  <a:pt x="2729" y="374"/>
                </a:lnTo>
                <a:lnTo>
                  <a:pt x="2846" y="339"/>
                </a:lnTo>
                <a:lnTo>
                  <a:pt x="2964" y="307"/>
                </a:lnTo>
                <a:lnTo>
                  <a:pt x="3084" y="276"/>
                </a:lnTo>
                <a:lnTo>
                  <a:pt x="3205" y="246"/>
                </a:lnTo>
                <a:lnTo>
                  <a:pt x="3328" y="218"/>
                </a:lnTo>
                <a:lnTo>
                  <a:pt x="3452" y="192"/>
                </a:lnTo>
                <a:lnTo>
                  <a:pt x="3577" y="167"/>
                </a:lnTo>
                <a:lnTo>
                  <a:pt x="3703" y="144"/>
                </a:lnTo>
                <a:lnTo>
                  <a:pt x="3830" y="123"/>
                </a:lnTo>
                <a:lnTo>
                  <a:pt x="3959" y="103"/>
                </a:lnTo>
                <a:lnTo>
                  <a:pt x="4088" y="85"/>
                </a:lnTo>
                <a:lnTo>
                  <a:pt x="4218" y="69"/>
                </a:lnTo>
                <a:lnTo>
                  <a:pt x="4348" y="55"/>
                </a:lnTo>
                <a:lnTo>
                  <a:pt x="4479" y="42"/>
                </a:lnTo>
                <a:lnTo>
                  <a:pt x="4611" y="31"/>
                </a:lnTo>
                <a:lnTo>
                  <a:pt x="4744" y="21"/>
                </a:lnTo>
                <a:lnTo>
                  <a:pt x="4876" y="13"/>
                </a:lnTo>
                <a:lnTo>
                  <a:pt x="5009" y="7"/>
                </a:lnTo>
                <a:lnTo>
                  <a:pt x="5142" y="3"/>
                </a:lnTo>
                <a:lnTo>
                  <a:pt x="5276" y="1"/>
                </a:lnTo>
                <a:lnTo>
                  <a:pt x="5409" y="0"/>
                </a:lnTo>
                <a:lnTo>
                  <a:pt x="5543" y="1"/>
                </a:lnTo>
                <a:lnTo>
                  <a:pt x="5676" y="4"/>
                </a:lnTo>
                <a:lnTo>
                  <a:pt x="5809" y="8"/>
                </a:lnTo>
                <a:lnTo>
                  <a:pt x="5942" y="15"/>
                </a:lnTo>
                <a:lnTo>
                  <a:pt x="6075" y="23"/>
                </a:lnTo>
                <a:lnTo>
                  <a:pt x="6207" y="32"/>
                </a:lnTo>
                <a:lnTo>
                  <a:pt x="6339" y="44"/>
                </a:lnTo>
                <a:lnTo>
                  <a:pt x="6470" y="57"/>
                </a:lnTo>
                <a:lnTo>
                  <a:pt x="6600" y="72"/>
                </a:lnTo>
                <a:lnTo>
                  <a:pt x="6730" y="88"/>
                </a:lnTo>
                <a:lnTo>
                  <a:pt x="6859" y="107"/>
                </a:lnTo>
                <a:lnTo>
                  <a:pt x="6987" y="127"/>
                </a:lnTo>
                <a:lnTo>
                  <a:pt x="7114" y="148"/>
                </a:lnTo>
                <a:lnTo>
                  <a:pt x="7240" y="172"/>
                </a:lnTo>
                <a:lnTo>
                  <a:pt x="7365" y="196"/>
                </a:lnTo>
                <a:lnTo>
                  <a:pt x="7489" y="223"/>
                </a:lnTo>
                <a:lnTo>
                  <a:pt x="7611" y="251"/>
                </a:lnTo>
                <a:lnTo>
                  <a:pt x="7732" y="281"/>
                </a:lnTo>
                <a:lnTo>
                  <a:pt x="7852" y="312"/>
                </a:lnTo>
                <a:lnTo>
                  <a:pt x="7970" y="345"/>
                </a:lnTo>
                <a:lnTo>
                  <a:pt x="8087" y="380"/>
                </a:lnTo>
                <a:lnTo>
                  <a:pt x="8202" y="416"/>
                </a:lnTo>
                <a:lnTo>
                  <a:pt x="8315" y="453"/>
                </a:lnTo>
                <a:lnTo>
                  <a:pt x="8426" y="492"/>
                </a:lnTo>
                <a:lnTo>
                  <a:pt x="8536" y="532"/>
                </a:lnTo>
                <a:lnTo>
                  <a:pt x="8643" y="574"/>
                </a:lnTo>
                <a:lnTo>
                  <a:pt x="8749" y="617"/>
                </a:lnTo>
                <a:lnTo>
                  <a:pt x="8853" y="662"/>
                </a:lnTo>
                <a:lnTo>
                  <a:pt x="8954" y="708"/>
                </a:lnTo>
                <a:lnTo>
                  <a:pt x="9053" y="755"/>
                </a:lnTo>
                <a:lnTo>
                  <a:pt x="9151" y="803"/>
                </a:lnTo>
                <a:lnTo>
                  <a:pt x="9245" y="853"/>
                </a:lnTo>
                <a:lnTo>
                  <a:pt x="9338" y="904"/>
                </a:lnTo>
                <a:lnTo>
                  <a:pt x="9428" y="956"/>
                </a:lnTo>
                <a:lnTo>
                  <a:pt x="9515" y="1009"/>
                </a:lnTo>
                <a:lnTo>
                  <a:pt x="9600" y="1064"/>
                </a:lnTo>
                <a:lnTo>
                  <a:pt x="9683" y="1119"/>
                </a:lnTo>
                <a:lnTo>
                  <a:pt x="9763" y="1176"/>
                </a:lnTo>
                <a:lnTo>
                  <a:pt x="9840" y="1234"/>
                </a:lnTo>
                <a:lnTo>
                  <a:pt x="9914" y="1292"/>
                </a:lnTo>
                <a:lnTo>
                  <a:pt x="9986" y="1352"/>
                </a:lnTo>
                <a:lnTo>
                  <a:pt x="10055" y="1412"/>
                </a:lnTo>
                <a:lnTo>
                  <a:pt x="10121" y="1474"/>
                </a:lnTo>
                <a:lnTo>
                  <a:pt x="10184" y="1536"/>
                </a:lnTo>
                <a:lnTo>
                  <a:pt x="10245" y="1599"/>
                </a:lnTo>
                <a:lnTo>
                  <a:pt x="10302" y="1663"/>
                </a:lnTo>
                <a:lnTo>
                  <a:pt x="10356" y="1727"/>
                </a:lnTo>
                <a:lnTo>
                  <a:pt x="10407" y="1793"/>
                </a:lnTo>
                <a:lnTo>
                  <a:pt x="10456" y="1859"/>
                </a:lnTo>
                <a:lnTo>
                  <a:pt x="10501" y="1925"/>
                </a:lnTo>
                <a:lnTo>
                  <a:pt x="10543" y="1992"/>
                </a:lnTo>
                <a:lnTo>
                  <a:pt x="10582" y="2060"/>
                </a:lnTo>
                <a:lnTo>
                  <a:pt x="10617" y="2128"/>
                </a:lnTo>
                <a:lnTo>
                  <a:pt x="10650" y="2196"/>
                </a:lnTo>
                <a:lnTo>
                  <a:pt x="10679" y="2265"/>
                </a:lnTo>
                <a:lnTo>
                  <a:pt x="10705" y="2334"/>
                </a:lnTo>
                <a:lnTo>
                  <a:pt x="10728" y="2404"/>
                </a:lnTo>
                <a:lnTo>
                  <a:pt x="10747" y="2474"/>
                </a:lnTo>
                <a:lnTo>
                  <a:pt x="10764" y="2544"/>
                </a:lnTo>
                <a:lnTo>
                  <a:pt x="10777" y="2614"/>
                </a:lnTo>
                <a:lnTo>
                  <a:pt x="10786" y="2685"/>
                </a:lnTo>
                <a:lnTo>
                  <a:pt x="10793" y="2755"/>
                </a:lnTo>
                <a:lnTo>
                  <a:pt x="10796" y="2826"/>
                </a:lnTo>
                <a:lnTo>
                  <a:pt x="10795" y="2897"/>
                </a:lnTo>
                <a:lnTo>
                  <a:pt x="10792" y="2967"/>
                </a:lnTo>
                <a:lnTo>
                  <a:pt x="10785" y="3038"/>
                </a:lnTo>
                <a:lnTo>
                  <a:pt x="10775" y="3108"/>
                </a:lnTo>
                <a:lnTo>
                  <a:pt x="10762" y="3179"/>
                </a:lnTo>
                <a:lnTo>
                  <a:pt x="10745" y="3249"/>
                </a:lnTo>
                <a:lnTo>
                  <a:pt x="10725" y="3319"/>
                </a:lnTo>
                <a:lnTo>
                  <a:pt x="10702" y="3388"/>
                </a:lnTo>
                <a:lnTo>
                  <a:pt x="10675" y="3457"/>
                </a:lnTo>
                <a:lnTo>
                  <a:pt x="10646" y="3526"/>
                </a:lnTo>
                <a:lnTo>
                  <a:pt x="10613" y="3595"/>
                </a:lnTo>
                <a:lnTo>
                  <a:pt x="10577" y="3663"/>
                </a:lnTo>
                <a:lnTo>
                  <a:pt x="10538" y="3730"/>
                </a:lnTo>
                <a:lnTo>
                  <a:pt x="10495" y="3797"/>
                </a:lnTo>
                <a:lnTo>
                  <a:pt x="10450" y="3864"/>
                </a:lnTo>
                <a:lnTo>
                  <a:pt x="10401" y="3929"/>
                </a:lnTo>
                <a:lnTo>
                  <a:pt x="10350" y="3995"/>
                </a:lnTo>
                <a:lnTo>
                  <a:pt x="10295" y="4059"/>
                </a:lnTo>
                <a:lnTo>
                  <a:pt x="10237" y="4123"/>
                </a:lnTo>
                <a:lnTo>
                  <a:pt x="10177" y="4186"/>
                </a:lnTo>
                <a:lnTo>
                  <a:pt x="10113" y="4248"/>
                </a:lnTo>
                <a:lnTo>
                  <a:pt x="10047" y="4309"/>
                </a:lnTo>
                <a:lnTo>
                  <a:pt x="9977" y="4370"/>
                </a:lnTo>
                <a:lnTo>
                  <a:pt x="9905" y="4429"/>
                </a:lnTo>
                <a:lnTo>
                  <a:pt x="9831" y="4488"/>
                </a:lnTo>
                <a:lnTo>
                  <a:pt x="9753" y="4545"/>
                </a:lnTo>
                <a:lnTo>
                  <a:pt x="9673" y="4602"/>
                </a:lnTo>
                <a:lnTo>
                  <a:pt x="9590" y="4657"/>
                </a:lnTo>
                <a:lnTo>
                  <a:pt x="9505" y="4711"/>
                </a:lnTo>
                <a:lnTo>
                  <a:pt x="9417" y="4764"/>
                </a:lnTo>
                <a:lnTo>
                  <a:pt x="9326" y="4816"/>
                </a:lnTo>
                <a:lnTo>
                  <a:pt x="9234" y="4867"/>
                </a:lnTo>
                <a:lnTo>
                  <a:pt x="9139" y="4917"/>
                </a:lnTo>
                <a:lnTo>
                  <a:pt x="9041" y="4965"/>
                </a:lnTo>
                <a:lnTo>
                  <a:pt x="8942" y="5012"/>
                </a:lnTo>
                <a:lnTo>
                  <a:pt x="8840" y="5058"/>
                </a:lnTo>
                <a:lnTo>
                  <a:pt x="8736" y="5102"/>
                </a:lnTo>
                <a:lnTo>
                  <a:pt x="8630" y="5145"/>
                </a:lnTo>
                <a:lnTo>
                  <a:pt x="8522" y="5187"/>
                </a:lnTo>
                <a:lnTo>
                  <a:pt x="8412" y="5227"/>
                </a:lnTo>
                <a:lnTo>
                  <a:pt x="8301" y="5266"/>
                </a:lnTo>
                <a:lnTo>
                  <a:pt x="8187" y="5303"/>
                </a:lnTo>
                <a:lnTo>
                  <a:pt x="8072" y="5339"/>
                </a:lnTo>
                <a:lnTo>
                  <a:pt x="7956" y="5373"/>
                </a:lnTo>
                <a:lnTo>
                  <a:pt x="8382" y="5794"/>
                </a:lnTo>
                <a:lnTo>
                  <a:pt x="6530" y="5435"/>
                </a:lnTo>
                <a:lnTo>
                  <a:pt x="7150" y="4581"/>
                </a:lnTo>
                <a:lnTo>
                  <a:pt x="7575" y="5001"/>
                </a:lnTo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"/>
          <p:cNvSpPr/>
          <p:nvPr/>
        </p:nvSpPr>
        <p:spPr>
          <a:xfrm>
            <a:off x="4059360" y="3817800"/>
            <a:ext cx="3713040" cy="2051280"/>
          </a:xfrm>
          <a:custGeom>
            <a:avLst/>
            <a:gdLst/>
            <a:ahLst/>
            <a:rect l="l" t="t" r="r" b="b"/>
            <a:pathLst>
              <a:path w="10316" h="5699">
                <a:moveTo>
                  <a:pt x="1848" y="2764"/>
                </a:moveTo>
                <a:lnTo>
                  <a:pt x="1846" y="2875"/>
                </a:lnTo>
                <a:lnTo>
                  <a:pt x="1854" y="2986"/>
                </a:lnTo>
                <a:lnTo>
                  <a:pt x="1870" y="3096"/>
                </a:lnTo>
                <a:lnTo>
                  <a:pt x="1896" y="3206"/>
                </a:lnTo>
                <a:lnTo>
                  <a:pt x="1931" y="3315"/>
                </a:lnTo>
                <a:lnTo>
                  <a:pt x="1975" y="3423"/>
                </a:lnTo>
                <a:lnTo>
                  <a:pt x="2028" y="3529"/>
                </a:lnTo>
                <a:lnTo>
                  <a:pt x="2089" y="3634"/>
                </a:lnTo>
                <a:lnTo>
                  <a:pt x="2160" y="3736"/>
                </a:lnTo>
                <a:lnTo>
                  <a:pt x="2238" y="3837"/>
                </a:lnTo>
                <a:lnTo>
                  <a:pt x="2325" y="3935"/>
                </a:lnTo>
                <a:lnTo>
                  <a:pt x="2420" y="4030"/>
                </a:lnTo>
                <a:lnTo>
                  <a:pt x="2523" y="4122"/>
                </a:lnTo>
                <a:lnTo>
                  <a:pt x="2633" y="4211"/>
                </a:lnTo>
                <a:lnTo>
                  <a:pt x="2750" y="4297"/>
                </a:lnTo>
                <a:lnTo>
                  <a:pt x="2875" y="4379"/>
                </a:lnTo>
                <a:lnTo>
                  <a:pt x="3006" y="4457"/>
                </a:lnTo>
                <a:lnTo>
                  <a:pt x="3144" y="4531"/>
                </a:lnTo>
                <a:lnTo>
                  <a:pt x="3287" y="4601"/>
                </a:lnTo>
                <a:lnTo>
                  <a:pt x="3436" y="4667"/>
                </a:lnTo>
                <a:lnTo>
                  <a:pt x="3590" y="4728"/>
                </a:lnTo>
                <a:lnTo>
                  <a:pt x="3750" y="4784"/>
                </a:lnTo>
                <a:lnTo>
                  <a:pt x="3913" y="4836"/>
                </a:lnTo>
                <a:lnTo>
                  <a:pt x="4081" y="4882"/>
                </a:lnTo>
                <a:lnTo>
                  <a:pt x="4253" y="4924"/>
                </a:lnTo>
                <a:lnTo>
                  <a:pt x="4427" y="4960"/>
                </a:lnTo>
                <a:lnTo>
                  <a:pt x="4605" y="4991"/>
                </a:lnTo>
                <a:lnTo>
                  <a:pt x="4785" y="5017"/>
                </a:lnTo>
                <a:lnTo>
                  <a:pt x="4967" y="5037"/>
                </a:lnTo>
                <a:lnTo>
                  <a:pt x="5150" y="5052"/>
                </a:lnTo>
                <a:lnTo>
                  <a:pt x="5334" y="5061"/>
                </a:lnTo>
                <a:lnTo>
                  <a:pt x="5519" y="5065"/>
                </a:lnTo>
                <a:lnTo>
                  <a:pt x="5704" y="5063"/>
                </a:lnTo>
                <a:lnTo>
                  <a:pt x="5888" y="5056"/>
                </a:lnTo>
                <a:lnTo>
                  <a:pt x="6072" y="5043"/>
                </a:lnTo>
                <a:lnTo>
                  <a:pt x="6254" y="5025"/>
                </a:lnTo>
                <a:lnTo>
                  <a:pt x="6435" y="5001"/>
                </a:lnTo>
                <a:lnTo>
                  <a:pt x="6613" y="4972"/>
                </a:lnTo>
                <a:lnTo>
                  <a:pt x="6789" y="4937"/>
                </a:lnTo>
                <a:lnTo>
                  <a:pt x="6962" y="4898"/>
                </a:lnTo>
                <a:lnTo>
                  <a:pt x="7131" y="4853"/>
                </a:lnTo>
                <a:lnTo>
                  <a:pt x="7296" y="4803"/>
                </a:lnTo>
                <a:lnTo>
                  <a:pt x="7457" y="4749"/>
                </a:lnTo>
                <a:lnTo>
                  <a:pt x="7613" y="4689"/>
                </a:lnTo>
                <a:lnTo>
                  <a:pt x="7764" y="4625"/>
                </a:lnTo>
                <a:lnTo>
                  <a:pt x="7910" y="4557"/>
                </a:lnTo>
                <a:lnTo>
                  <a:pt x="8049" y="4484"/>
                </a:lnTo>
                <a:lnTo>
                  <a:pt x="8183" y="4407"/>
                </a:lnTo>
                <a:lnTo>
                  <a:pt x="8310" y="4327"/>
                </a:lnTo>
                <a:lnTo>
                  <a:pt x="8430" y="4242"/>
                </a:lnTo>
                <a:lnTo>
                  <a:pt x="8543" y="4154"/>
                </a:lnTo>
                <a:lnTo>
                  <a:pt x="8648" y="4063"/>
                </a:lnTo>
                <a:lnTo>
                  <a:pt x="8746" y="3969"/>
                </a:lnTo>
                <a:lnTo>
                  <a:pt x="8836" y="3872"/>
                </a:lnTo>
                <a:lnTo>
                  <a:pt x="8917" y="3773"/>
                </a:lnTo>
                <a:lnTo>
                  <a:pt x="8990" y="3671"/>
                </a:lnTo>
                <a:lnTo>
                  <a:pt x="9055" y="3567"/>
                </a:lnTo>
                <a:lnTo>
                  <a:pt x="9111" y="3461"/>
                </a:lnTo>
                <a:lnTo>
                  <a:pt x="9158" y="3354"/>
                </a:lnTo>
                <a:lnTo>
                  <a:pt x="9196" y="3245"/>
                </a:lnTo>
                <a:lnTo>
                  <a:pt x="9225" y="3136"/>
                </a:lnTo>
                <a:lnTo>
                  <a:pt x="9245" y="3025"/>
                </a:lnTo>
                <a:lnTo>
                  <a:pt x="9256" y="2915"/>
                </a:lnTo>
                <a:lnTo>
                  <a:pt x="9257" y="2804"/>
                </a:lnTo>
                <a:lnTo>
                  <a:pt x="9250" y="2693"/>
                </a:lnTo>
                <a:lnTo>
                  <a:pt x="9233" y="2582"/>
                </a:lnTo>
                <a:lnTo>
                  <a:pt x="9207" y="2472"/>
                </a:lnTo>
                <a:lnTo>
                  <a:pt x="9172" y="2364"/>
                </a:lnTo>
                <a:lnTo>
                  <a:pt x="9127" y="2256"/>
                </a:lnTo>
                <a:lnTo>
                  <a:pt x="9074" y="2150"/>
                </a:lnTo>
                <a:lnTo>
                  <a:pt x="9012" y="2045"/>
                </a:lnTo>
                <a:lnTo>
                  <a:pt x="8942" y="1942"/>
                </a:lnTo>
                <a:lnTo>
                  <a:pt x="8863" y="1842"/>
                </a:lnTo>
                <a:lnTo>
                  <a:pt x="8776" y="1744"/>
                </a:lnTo>
                <a:lnTo>
                  <a:pt x="8681" y="1649"/>
                </a:lnTo>
                <a:lnTo>
                  <a:pt x="8578" y="1557"/>
                </a:lnTo>
                <a:lnTo>
                  <a:pt x="8467" y="1468"/>
                </a:lnTo>
                <a:lnTo>
                  <a:pt x="8350" y="1382"/>
                </a:lnTo>
                <a:lnTo>
                  <a:pt x="8225" y="1301"/>
                </a:lnTo>
                <a:lnTo>
                  <a:pt x="8094" y="1222"/>
                </a:lnTo>
                <a:lnTo>
                  <a:pt x="7956" y="1148"/>
                </a:lnTo>
                <a:lnTo>
                  <a:pt x="7812" y="1079"/>
                </a:lnTo>
                <a:lnTo>
                  <a:pt x="7663" y="1013"/>
                </a:lnTo>
                <a:lnTo>
                  <a:pt x="7509" y="952"/>
                </a:lnTo>
                <a:lnTo>
                  <a:pt x="7349" y="896"/>
                </a:lnTo>
                <a:lnTo>
                  <a:pt x="7185" y="845"/>
                </a:lnTo>
                <a:lnTo>
                  <a:pt x="7017" y="798"/>
                </a:lnTo>
                <a:lnTo>
                  <a:pt x="6846" y="757"/>
                </a:lnTo>
                <a:lnTo>
                  <a:pt x="6671" y="721"/>
                </a:lnTo>
                <a:lnTo>
                  <a:pt x="6493" y="690"/>
                </a:lnTo>
                <a:lnTo>
                  <a:pt x="6313" y="664"/>
                </a:lnTo>
                <a:lnTo>
                  <a:pt x="6132" y="644"/>
                </a:lnTo>
                <a:lnTo>
                  <a:pt x="5948" y="630"/>
                </a:lnTo>
                <a:lnTo>
                  <a:pt x="6060" y="0"/>
                </a:lnTo>
                <a:lnTo>
                  <a:pt x="6296" y="19"/>
                </a:lnTo>
                <a:lnTo>
                  <a:pt x="6529" y="45"/>
                </a:lnTo>
                <a:lnTo>
                  <a:pt x="6761" y="77"/>
                </a:lnTo>
                <a:lnTo>
                  <a:pt x="6989" y="117"/>
                </a:lnTo>
                <a:lnTo>
                  <a:pt x="7214" y="163"/>
                </a:lnTo>
                <a:lnTo>
                  <a:pt x="7434" y="216"/>
                </a:lnTo>
                <a:lnTo>
                  <a:pt x="7650" y="276"/>
                </a:lnTo>
                <a:lnTo>
                  <a:pt x="7861" y="342"/>
                </a:lnTo>
                <a:lnTo>
                  <a:pt x="8066" y="414"/>
                </a:lnTo>
                <a:lnTo>
                  <a:pt x="8265" y="492"/>
                </a:lnTo>
                <a:lnTo>
                  <a:pt x="8457" y="576"/>
                </a:lnTo>
                <a:lnTo>
                  <a:pt x="8641" y="666"/>
                </a:lnTo>
                <a:lnTo>
                  <a:pt x="8819" y="761"/>
                </a:lnTo>
                <a:lnTo>
                  <a:pt x="8987" y="861"/>
                </a:lnTo>
                <a:lnTo>
                  <a:pt x="9148" y="967"/>
                </a:lnTo>
                <a:lnTo>
                  <a:pt x="9299" y="1077"/>
                </a:lnTo>
                <a:lnTo>
                  <a:pt x="9441" y="1191"/>
                </a:lnTo>
                <a:lnTo>
                  <a:pt x="9574" y="1309"/>
                </a:lnTo>
                <a:lnTo>
                  <a:pt x="9696" y="1432"/>
                </a:lnTo>
                <a:lnTo>
                  <a:pt x="9808" y="1557"/>
                </a:lnTo>
                <a:lnTo>
                  <a:pt x="9910" y="1686"/>
                </a:lnTo>
                <a:lnTo>
                  <a:pt x="10000" y="1818"/>
                </a:lnTo>
                <a:lnTo>
                  <a:pt x="10080" y="1952"/>
                </a:lnTo>
                <a:lnTo>
                  <a:pt x="10148" y="2089"/>
                </a:lnTo>
                <a:lnTo>
                  <a:pt x="10205" y="2227"/>
                </a:lnTo>
                <a:lnTo>
                  <a:pt x="10250" y="2367"/>
                </a:lnTo>
                <a:lnTo>
                  <a:pt x="10284" y="2508"/>
                </a:lnTo>
                <a:lnTo>
                  <a:pt x="10305" y="2650"/>
                </a:lnTo>
                <a:lnTo>
                  <a:pt x="10315" y="2793"/>
                </a:lnTo>
                <a:lnTo>
                  <a:pt x="10313" y="2935"/>
                </a:lnTo>
                <a:lnTo>
                  <a:pt x="10300" y="3078"/>
                </a:lnTo>
                <a:lnTo>
                  <a:pt x="10274" y="3220"/>
                </a:lnTo>
                <a:lnTo>
                  <a:pt x="10237" y="3360"/>
                </a:lnTo>
                <a:lnTo>
                  <a:pt x="10188" y="3500"/>
                </a:lnTo>
                <a:lnTo>
                  <a:pt x="10127" y="3638"/>
                </a:lnTo>
                <a:lnTo>
                  <a:pt x="10055" y="3774"/>
                </a:lnTo>
                <a:lnTo>
                  <a:pt x="9972" y="3907"/>
                </a:lnTo>
                <a:lnTo>
                  <a:pt x="9878" y="4038"/>
                </a:lnTo>
                <a:lnTo>
                  <a:pt x="9773" y="4166"/>
                </a:lnTo>
                <a:lnTo>
                  <a:pt x="9657" y="4291"/>
                </a:lnTo>
                <a:lnTo>
                  <a:pt x="9532" y="4412"/>
                </a:lnTo>
                <a:lnTo>
                  <a:pt x="9396" y="4529"/>
                </a:lnTo>
                <a:lnTo>
                  <a:pt x="9251" y="4642"/>
                </a:lnTo>
                <a:lnTo>
                  <a:pt x="9097" y="4750"/>
                </a:lnTo>
                <a:lnTo>
                  <a:pt x="8933" y="4854"/>
                </a:lnTo>
                <a:lnTo>
                  <a:pt x="8762" y="4952"/>
                </a:lnTo>
                <a:lnTo>
                  <a:pt x="8582" y="5046"/>
                </a:lnTo>
                <a:lnTo>
                  <a:pt x="8395" y="5134"/>
                </a:lnTo>
                <a:lnTo>
                  <a:pt x="8201" y="5216"/>
                </a:lnTo>
                <a:lnTo>
                  <a:pt x="8000" y="5292"/>
                </a:lnTo>
                <a:lnTo>
                  <a:pt x="7793" y="5362"/>
                </a:lnTo>
                <a:lnTo>
                  <a:pt x="7581" y="5426"/>
                </a:lnTo>
                <a:lnTo>
                  <a:pt x="7363" y="5484"/>
                </a:lnTo>
                <a:lnTo>
                  <a:pt x="7141" y="5534"/>
                </a:lnTo>
                <a:lnTo>
                  <a:pt x="6915" y="5579"/>
                </a:lnTo>
                <a:lnTo>
                  <a:pt x="6686" y="5616"/>
                </a:lnTo>
                <a:lnTo>
                  <a:pt x="6454" y="5646"/>
                </a:lnTo>
                <a:lnTo>
                  <a:pt x="6219" y="5670"/>
                </a:lnTo>
                <a:lnTo>
                  <a:pt x="5983" y="5686"/>
                </a:lnTo>
                <a:lnTo>
                  <a:pt x="5746" y="5696"/>
                </a:lnTo>
                <a:lnTo>
                  <a:pt x="5508" y="5698"/>
                </a:lnTo>
                <a:lnTo>
                  <a:pt x="5271" y="5693"/>
                </a:lnTo>
                <a:lnTo>
                  <a:pt x="5034" y="5681"/>
                </a:lnTo>
                <a:lnTo>
                  <a:pt x="4798" y="5662"/>
                </a:lnTo>
                <a:lnTo>
                  <a:pt x="4565" y="5636"/>
                </a:lnTo>
                <a:lnTo>
                  <a:pt x="4333" y="5603"/>
                </a:lnTo>
                <a:lnTo>
                  <a:pt x="4105" y="5563"/>
                </a:lnTo>
                <a:lnTo>
                  <a:pt x="3881" y="5516"/>
                </a:lnTo>
                <a:lnTo>
                  <a:pt x="3660" y="5463"/>
                </a:lnTo>
                <a:lnTo>
                  <a:pt x="3445" y="5403"/>
                </a:lnTo>
                <a:lnTo>
                  <a:pt x="3234" y="5337"/>
                </a:lnTo>
                <a:lnTo>
                  <a:pt x="3029" y="5264"/>
                </a:lnTo>
                <a:lnTo>
                  <a:pt x="2831" y="5186"/>
                </a:lnTo>
                <a:lnTo>
                  <a:pt x="2639" y="5101"/>
                </a:lnTo>
                <a:lnTo>
                  <a:pt x="2455" y="5011"/>
                </a:lnTo>
                <a:lnTo>
                  <a:pt x="2279" y="4916"/>
                </a:lnTo>
                <a:lnTo>
                  <a:pt x="2110" y="4815"/>
                </a:lnTo>
                <a:lnTo>
                  <a:pt x="1950" y="4710"/>
                </a:lnTo>
                <a:lnTo>
                  <a:pt x="1799" y="4600"/>
                </a:lnTo>
                <a:lnTo>
                  <a:pt x="1658" y="4485"/>
                </a:lnTo>
                <a:lnTo>
                  <a:pt x="1526" y="4366"/>
                </a:lnTo>
                <a:lnTo>
                  <a:pt x="1404" y="4244"/>
                </a:lnTo>
                <a:lnTo>
                  <a:pt x="1292" y="4118"/>
                </a:lnTo>
                <a:lnTo>
                  <a:pt x="1191" y="3989"/>
                </a:lnTo>
                <a:lnTo>
                  <a:pt x="1101" y="3857"/>
                </a:lnTo>
                <a:lnTo>
                  <a:pt x="1022" y="3723"/>
                </a:lnTo>
                <a:lnTo>
                  <a:pt x="955" y="3586"/>
                </a:lnTo>
                <a:lnTo>
                  <a:pt x="899" y="3447"/>
                </a:lnTo>
                <a:lnTo>
                  <a:pt x="854" y="3307"/>
                </a:lnTo>
                <a:lnTo>
                  <a:pt x="821" y="3166"/>
                </a:lnTo>
                <a:lnTo>
                  <a:pt x="800" y="3024"/>
                </a:lnTo>
                <a:lnTo>
                  <a:pt x="790" y="2882"/>
                </a:lnTo>
                <a:lnTo>
                  <a:pt x="793" y="2739"/>
                </a:lnTo>
                <a:lnTo>
                  <a:pt x="0" y="2722"/>
                </a:lnTo>
                <a:lnTo>
                  <a:pt x="1568" y="1980"/>
                </a:lnTo>
                <a:lnTo>
                  <a:pt x="2641" y="2779"/>
                </a:lnTo>
                <a:lnTo>
                  <a:pt x="1848" y="2764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1830240"/>
            <a:ext cx="2724120" cy="2057400"/>
          </a:xfrm>
          <a:custGeom>
            <a:avLst/>
            <a:gdLst/>
            <a:ahLst/>
            <a:rect l="l" t="t" r="r" b="b"/>
            <a:pathLst>
              <a:path w="7566" h="5715">
                <a:moveTo>
                  <a:pt x="6159" y="2938"/>
                </a:moveTo>
                <a:lnTo>
                  <a:pt x="6161" y="2829"/>
                </a:lnTo>
                <a:lnTo>
                  <a:pt x="6156" y="2720"/>
                </a:lnTo>
                <a:lnTo>
                  <a:pt x="6144" y="2612"/>
                </a:lnTo>
                <a:lnTo>
                  <a:pt x="6126" y="2504"/>
                </a:lnTo>
                <a:lnTo>
                  <a:pt x="6101" y="2397"/>
                </a:lnTo>
                <a:lnTo>
                  <a:pt x="6070" y="2291"/>
                </a:lnTo>
                <a:lnTo>
                  <a:pt x="6032" y="2187"/>
                </a:lnTo>
                <a:lnTo>
                  <a:pt x="5988" y="2084"/>
                </a:lnTo>
                <a:lnTo>
                  <a:pt x="5938" y="1983"/>
                </a:lnTo>
                <a:lnTo>
                  <a:pt x="5882" y="1885"/>
                </a:lnTo>
                <a:lnTo>
                  <a:pt x="5820" y="1789"/>
                </a:lnTo>
                <a:lnTo>
                  <a:pt x="5752" y="1695"/>
                </a:lnTo>
                <a:lnTo>
                  <a:pt x="5678" y="1604"/>
                </a:lnTo>
                <a:lnTo>
                  <a:pt x="5599" y="1517"/>
                </a:lnTo>
                <a:lnTo>
                  <a:pt x="5515" y="1433"/>
                </a:lnTo>
                <a:lnTo>
                  <a:pt x="5426" y="1352"/>
                </a:lnTo>
                <a:lnTo>
                  <a:pt x="5332" y="1275"/>
                </a:lnTo>
                <a:lnTo>
                  <a:pt x="5233" y="1202"/>
                </a:lnTo>
                <a:lnTo>
                  <a:pt x="5131" y="1133"/>
                </a:lnTo>
                <a:lnTo>
                  <a:pt x="5024" y="1068"/>
                </a:lnTo>
                <a:lnTo>
                  <a:pt x="4913" y="1008"/>
                </a:lnTo>
                <a:lnTo>
                  <a:pt x="4799" y="953"/>
                </a:lnTo>
                <a:lnTo>
                  <a:pt x="4681" y="902"/>
                </a:lnTo>
                <a:lnTo>
                  <a:pt x="4561" y="856"/>
                </a:lnTo>
                <a:lnTo>
                  <a:pt x="4437" y="815"/>
                </a:lnTo>
                <a:lnTo>
                  <a:pt x="4312" y="779"/>
                </a:lnTo>
                <a:lnTo>
                  <a:pt x="4184" y="748"/>
                </a:lnTo>
                <a:lnTo>
                  <a:pt x="4055" y="722"/>
                </a:lnTo>
                <a:lnTo>
                  <a:pt x="3925" y="702"/>
                </a:lnTo>
                <a:lnTo>
                  <a:pt x="3793" y="687"/>
                </a:lnTo>
                <a:lnTo>
                  <a:pt x="3660" y="677"/>
                </a:lnTo>
                <a:lnTo>
                  <a:pt x="3527" y="673"/>
                </a:lnTo>
                <a:lnTo>
                  <a:pt x="3394" y="674"/>
                </a:lnTo>
                <a:lnTo>
                  <a:pt x="3262" y="681"/>
                </a:lnTo>
                <a:lnTo>
                  <a:pt x="3130" y="693"/>
                </a:lnTo>
                <a:lnTo>
                  <a:pt x="2998" y="711"/>
                </a:lnTo>
                <a:lnTo>
                  <a:pt x="2868" y="733"/>
                </a:lnTo>
                <a:lnTo>
                  <a:pt x="2740" y="762"/>
                </a:lnTo>
                <a:lnTo>
                  <a:pt x="2613" y="795"/>
                </a:lnTo>
                <a:lnTo>
                  <a:pt x="2489" y="833"/>
                </a:lnTo>
                <a:lnTo>
                  <a:pt x="2367" y="877"/>
                </a:lnTo>
                <a:lnTo>
                  <a:pt x="2248" y="925"/>
                </a:lnTo>
                <a:lnTo>
                  <a:pt x="2132" y="978"/>
                </a:lnTo>
                <a:lnTo>
                  <a:pt x="2019" y="1036"/>
                </a:lnTo>
                <a:lnTo>
                  <a:pt x="1910" y="1098"/>
                </a:lnTo>
                <a:lnTo>
                  <a:pt x="1805" y="1165"/>
                </a:lnTo>
                <a:lnTo>
                  <a:pt x="1704" y="1236"/>
                </a:lnTo>
                <a:lnTo>
                  <a:pt x="1607" y="1310"/>
                </a:lnTo>
                <a:lnTo>
                  <a:pt x="1516" y="1389"/>
                </a:lnTo>
                <a:lnTo>
                  <a:pt x="1429" y="1472"/>
                </a:lnTo>
                <a:lnTo>
                  <a:pt x="1347" y="1557"/>
                </a:lnTo>
                <a:lnTo>
                  <a:pt x="1271" y="1646"/>
                </a:lnTo>
                <a:lnTo>
                  <a:pt x="1200" y="1738"/>
                </a:lnTo>
                <a:lnTo>
                  <a:pt x="1134" y="1833"/>
                </a:lnTo>
                <a:lnTo>
                  <a:pt x="1075" y="1931"/>
                </a:lnTo>
                <a:lnTo>
                  <a:pt x="1022" y="2030"/>
                </a:lnTo>
                <a:lnTo>
                  <a:pt x="974" y="2132"/>
                </a:lnTo>
                <a:lnTo>
                  <a:pt x="933" y="2235"/>
                </a:lnTo>
                <a:lnTo>
                  <a:pt x="899" y="2340"/>
                </a:lnTo>
                <a:lnTo>
                  <a:pt x="870" y="2447"/>
                </a:lnTo>
                <a:lnTo>
                  <a:pt x="849" y="2554"/>
                </a:lnTo>
                <a:lnTo>
                  <a:pt x="834" y="2662"/>
                </a:lnTo>
                <a:lnTo>
                  <a:pt x="825" y="2771"/>
                </a:lnTo>
                <a:lnTo>
                  <a:pt x="823" y="2880"/>
                </a:lnTo>
                <a:lnTo>
                  <a:pt x="828" y="2988"/>
                </a:lnTo>
                <a:lnTo>
                  <a:pt x="839" y="3097"/>
                </a:lnTo>
                <a:lnTo>
                  <a:pt x="857" y="3205"/>
                </a:lnTo>
                <a:lnTo>
                  <a:pt x="881" y="3312"/>
                </a:lnTo>
                <a:lnTo>
                  <a:pt x="912" y="3417"/>
                </a:lnTo>
                <a:lnTo>
                  <a:pt x="950" y="3522"/>
                </a:lnTo>
                <a:lnTo>
                  <a:pt x="993" y="3625"/>
                </a:lnTo>
                <a:lnTo>
                  <a:pt x="1043" y="3726"/>
                </a:lnTo>
                <a:lnTo>
                  <a:pt x="1099" y="3824"/>
                </a:lnTo>
                <a:lnTo>
                  <a:pt x="1161" y="3921"/>
                </a:lnTo>
                <a:lnTo>
                  <a:pt x="1228" y="4014"/>
                </a:lnTo>
                <a:lnTo>
                  <a:pt x="1302" y="4105"/>
                </a:lnTo>
                <a:lnTo>
                  <a:pt x="1380" y="4193"/>
                </a:lnTo>
                <a:lnTo>
                  <a:pt x="1464" y="4277"/>
                </a:lnTo>
                <a:lnTo>
                  <a:pt x="1553" y="4358"/>
                </a:lnTo>
                <a:lnTo>
                  <a:pt x="1647" y="4435"/>
                </a:lnTo>
                <a:lnTo>
                  <a:pt x="1745" y="4508"/>
                </a:lnTo>
                <a:lnTo>
                  <a:pt x="1848" y="4578"/>
                </a:lnTo>
                <a:lnTo>
                  <a:pt x="1955" y="4642"/>
                </a:lnTo>
                <a:lnTo>
                  <a:pt x="2065" y="4703"/>
                </a:lnTo>
                <a:lnTo>
                  <a:pt x="2180" y="4759"/>
                </a:lnTo>
                <a:lnTo>
                  <a:pt x="2297" y="4810"/>
                </a:lnTo>
                <a:lnTo>
                  <a:pt x="2417" y="4856"/>
                </a:lnTo>
                <a:lnTo>
                  <a:pt x="2540" y="4897"/>
                </a:lnTo>
                <a:lnTo>
                  <a:pt x="2666" y="4934"/>
                </a:lnTo>
                <a:lnTo>
                  <a:pt x="2793" y="4965"/>
                </a:lnTo>
                <a:lnTo>
                  <a:pt x="2922" y="4991"/>
                </a:lnTo>
                <a:lnTo>
                  <a:pt x="3053" y="5011"/>
                </a:lnTo>
                <a:lnTo>
                  <a:pt x="3184" y="5026"/>
                </a:lnTo>
                <a:lnTo>
                  <a:pt x="3317" y="5036"/>
                </a:lnTo>
                <a:lnTo>
                  <a:pt x="3450" y="5041"/>
                </a:lnTo>
                <a:lnTo>
                  <a:pt x="3583" y="5040"/>
                </a:lnTo>
                <a:lnTo>
                  <a:pt x="3715" y="5033"/>
                </a:lnTo>
                <a:lnTo>
                  <a:pt x="3848" y="5022"/>
                </a:lnTo>
                <a:lnTo>
                  <a:pt x="3979" y="5004"/>
                </a:lnTo>
                <a:lnTo>
                  <a:pt x="4109" y="4982"/>
                </a:lnTo>
                <a:lnTo>
                  <a:pt x="4238" y="4954"/>
                </a:lnTo>
                <a:lnTo>
                  <a:pt x="4364" y="4921"/>
                </a:lnTo>
                <a:lnTo>
                  <a:pt x="4489" y="4883"/>
                </a:lnTo>
                <a:lnTo>
                  <a:pt x="4611" y="4840"/>
                </a:lnTo>
                <a:lnTo>
                  <a:pt x="4730" y="4792"/>
                </a:lnTo>
                <a:lnTo>
                  <a:pt x="5113" y="5388"/>
                </a:lnTo>
                <a:lnTo>
                  <a:pt x="4957" y="5451"/>
                </a:lnTo>
                <a:lnTo>
                  <a:pt x="4797" y="5507"/>
                </a:lnTo>
                <a:lnTo>
                  <a:pt x="4634" y="5557"/>
                </a:lnTo>
                <a:lnTo>
                  <a:pt x="4468" y="5600"/>
                </a:lnTo>
                <a:lnTo>
                  <a:pt x="4300" y="5637"/>
                </a:lnTo>
                <a:lnTo>
                  <a:pt x="4130" y="5666"/>
                </a:lnTo>
                <a:lnTo>
                  <a:pt x="3958" y="5689"/>
                </a:lnTo>
                <a:lnTo>
                  <a:pt x="3785" y="5704"/>
                </a:lnTo>
                <a:lnTo>
                  <a:pt x="3611" y="5712"/>
                </a:lnTo>
                <a:lnTo>
                  <a:pt x="3437" y="5714"/>
                </a:lnTo>
                <a:lnTo>
                  <a:pt x="3263" y="5708"/>
                </a:lnTo>
                <a:lnTo>
                  <a:pt x="3090" y="5695"/>
                </a:lnTo>
                <a:lnTo>
                  <a:pt x="2918" y="5675"/>
                </a:lnTo>
                <a:lnTo>
                  <a:pt x="2747" y="5648"/>
                </a:lnTo>
                <a:lnTo>
                  <a:pt x="2578" y="5614"/>
                </a:lnTo>
                <a:lnTo>
                  <a:pt x="2411" y="5574"/>
                </a:lnTo>
                <a:lnTo>
                  <a:pt x="2247" y="5526"/>
                </a:lnTo>
                <a:lnTo>
                  <a:pt x="2086" y="5472"/>
                </a:lnTo>
                <a:lnTo>
                  <a:pt x="1929" y="5411"/>
                </a:lnTo>
                <a:lnTo>
                  <a:pt x="1775" y="5345"/>
                </a:lnTo>
                <a:lnTo>
                  <a:pt x="1626" y="5272"/>
                </a:lnTo>
                <a:lnTo>
                  <a:pt x="1481" y="5192"/>
                </a:lnTo>
                <a:lnTo>
                  <a:pt x="1341" y="5108"/>
                </a:lnTo>
                <a:lnTo>
                  <a:pt x="1207" y="5017"/>
                </a:lnTo>
                <a:lnTo>
                  <a:pt x="1078" y="4921"/>
                </a:lnTo>
                <a:lnTo>
                  <a:pt x="956" y="4820"/>
                </a:lnTo>
                <a:lnTo>
                  <a:pt x="839" y="4715"/>
                </a:lnTo>
                <a:lnTo>
                  <a:pt x="729" y="4604"/>
                </a:lnTo>
                <a:lnTo>
                  <a:pt x="626" y="4490"/>
                </a:lnTo>
                <a:lnTo>
                  <a:pt x="531" y="4371"/>
                </a:lnTo>
                <a:lnTo>
                  <a:pt x="442" y="4248"/>
                </a:lnTo>
                <a:lnTo>
                  <a:pt x="361" y="4122"/>
                </a:lnTo>
                <a:lnTo>
                  <a:pt x="288" y="3993"/>
                </a:lnTo>
                <a:lnTo>
                  <a:pt x="223" y="3861"/>
                </a:lnTo>
                <a:lnTo>
                  <a:pt x="166" y="3727"/>
                </a:lnTo>
                <a:lnTo>
                  <a:pt x="117" y="3590"/>
                </a:lnTo>
                <a:lnTo>
                  <a:pt x="77" y="3452"/>
                </a:lnTo>
                <a:lnTo>
                  <a:pt x="45" y="3312"/>
                </a:lnTo>
                <a:lnTo>
                  <a:pt x="21" y="3171"/>
                </a:lnTo>
                <a:lnTo>
                  <a:pt x="6" y="3029"/>
                </a:lnTo>
                <a:lnTo>
                  <a:pt x="0" y="2887"/>
                </a:lnTo>
                <a:lnTo>
                  <a:pt x="3" y="2744"/>
                </a:lnTo>
                <a:lnTo>
                  <a:pt x="14" y="2602"/>
                </a:lnTo>
                <a:lnTo>
                  <a:pt x="34" y="2461"/>
                </a:lnTo>
                <a:lnTo>
                  <a:pt x="62" y="2321"/>
                </a:lnTo>
                <a:lnTo>
                  <a:pt x="99" y="2182"/>
                </a:lnTo>
                <a:lnTo>
                  <a:pt x="144" y="2044"/>
                </a:lnTo>
                <a:lnTo>
                  <a:pt x="198" y="1909"/>
                </a:lnTo>
                <a:lnTo>
                  <a:pt x="260" y="1776"/>
                </a:lnTo>
                <a:lnTo>
                  <a:pt x="330" y="1645"/>
                </a:lnTo>
                <a:lnTo>
                  <a:pt x="407" y="1518"/>
                </a:lnTo>
                <a:lnTo>
                  <a:pt x="493" y="1394"/>
                </a:lnTo>
                <a:lnTo>
                  <a:pt x="586" y="1274"/>
                </a:lnTo>
                <a:lnTo>
                  <a:pt x="686" y="1157"/>
                </a:lnTo>
                <a:lnTo>
                  <a:pt x="792" y="1045"/>
                </a:lnTo>
                <a:lnTo>
                  <a:pt x="906" y="937"/>
                </a:lnTo>
                <a:lnTo>
                  <a:pt x="1026" y="834"/>
                </a:lnTo>
                <a:lnTo>
                  <a:pt x="1152" y="736"/>
                </a:lnTo>
                <a:lnTo>
                  <a:pt x="1285" y="644"/>
                </a:lnTo>
                <a:lnTo>
                  <a:pt x="1422" y="556"/>
                </a:lnTo>
                <a:lnTo>
                  <a:pt x="1565" y="475"/>
                </a:lnTo>
                <a:lnTo>
                  <a:pt x="1712" y="399"/>
                </a:lnTo>
                <a:lnTo>
                  <a:pt x="1864" y="330"/>
                </a:lnTo>
                <a:lnTo>
                  <a:pt x="2020" y="267"/>
                </a:lnTo>
                <a:lnTo>
                  <a:pt x="2179" y="210"/>
                </a:lnTo>
                <a:lnTo>
                  <a:pt x="2342" y="160"/>
                </a:lnTo>
                <a:lnTo>
                  <a:pt x="2508" y="116"/>
                </a:lnTo>
                <a:lnTo>
                  <a:pt x="2676" y="79"/>
                </a:lnTo>
                <a:lnTo>
                  <a:pt x="2846" y="49"/>
                </a:lnTo>
                <a:lnTo>
                  <a:pt x="3018" y="27"/>
                </a:lnTo>
                <a:lnTo>
                  <a:pt x="3191" y="11"/>
                </a:lnTo>
                <a:lnTo>
                  <a:pt x="3364" y="2"/>
                </a:lnTo>
                <a:lnTo>
                  <a:pt x="3538" y="0"/>
                </a:lnTo>
                <a:lnTo>
                  <a:pt x="3712" y="6"/>
                </a:lnTo>
                <a:lnTo>
                  <a:pt x="3886" y="18"/>
                </a:lnTo>
                <a:lnTo>
                  <a:pt x="4058" y="38"/>
                </a:lnTo>
                <a:lnTo>
                  <a:pt x="4229" y="64"/>
                </a:lnTo>
                <a:lnTo>
                  <a:pt x="4398" y="98"/>
                </a:lnTo>
                <a:lnTo>
                  <a:pt x="4565" y="138"/>
                </a:lnTo>
                <a:lnTo>
                  <a:pt x="4729" y="185"/>
                </a:lnTo>
                <a:lnTo>
                  <a:pt x="4890" y="239"/>
                </a:lnTo>
                <a:lnTo>
                  <a:pt x="5048" y="299"/>
                </a:lnTo>
                <a:lnTo>
                  <a:pt x="5202" y="365"/>
                </a:lnTo>
                <a:lnTo>
                  <a:pt x="5351" y="438"/>
                </a:lnTo>
                <a:lnTo>
                  <a:pt x="5496" y="517"/>
                </a:lnTo>
                <a:lnTo>
                  <a:pt x="5636" y="601"/>
                </a:lnTo>
                <a:lnTo>
                  <a:pt x="5771" y="691"/>
                </a:lnTo>
                <a:lnTo>
                  <a:pt x="5900" y="787"/>
                </a:lnTo>
                <a:lnTo>
                  <a:pt x="6023" y="887"/>
                </a:lnTo>
                <a:lnTo>
                  <a:pt x="6140" y="993"/>
                </a:lnTo>
                <a:lnTo>
                  <a:pt x="6250" y="1103"/>
                </a:lnTo>
                <a:lnTo>
                  <a:pt x="6354" y="1217"/>
                </a:lnTo>
                <a:lnTo>
                  <a:pt x="6450" y="1336"/>
                </a:lnTo>
                <a:lnTo>
                  <a:pt x="6539" y="1458"/>
                </a:lnTo>
                <a:lnTo>
                  <a:pt x="6620" y="1584"/>
                </a:lnTo>
                <a:lnTo>
                  <a:pt x="6694" y="1713"/>
                </a:lnTo>
                <a:lnTo>
                  <a:pt x="6759" y="1845"/>
                </a:lnTo>
                <a:lnTo>
                  <a:pt x="6817" y="1979"/>
                </a:lnTo>
                <a:lnTo>
                  <a:pt x="6866" y="2116"/>
                </a:lnTo>
                <a:lnTo>
                  <a:pt x="6907" y="2254"/>
                </a:lnTo>
                <a:lnTo>
                  <a:pt x="6940" y="2394"/>
                </a:lnTo>
                <a:lnTo>
                  <a:pt x="6964" y="2535"/>
                </a:lnTo>
                <a:lnTo>
                  <a:pt x="6979" y="2676"/>
                </a:lnTo>
                <a:lnTo>
                  <a:pt x="6986" y="2819"/>
                </a:lnTo>
                <a:lnTo>
                  <a:pt x="6984" y="2961"/>
                </a:lnTo>
                <a:lnTo>
                  <a:pt x="7565" y="2979"/>
                </a:lnTo>
                <a:lnTo>
                  <a:pt x="6382" y="3733"/>
                </a:lnTo>
                <a:lnTo>
                  <a:pt x="5579" y="2920"/>
                </a:lnTo>
                <a:lnTo>
                  <a:pt x="6159" y="2938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568680" y="2819880"/>
            <a:ext cx="2603520" cy="2042280"/>
            <a:chOff x="3568680" y="2819880"/>
            <a:chExt cx="2603520" cy="2042280"/>
          </a:xfrm>
        </p:grpSpPr>
        <p:grpSp>
          <p:nvGrpSpPr>
            <p:cNvPr id="395" name=""/>
            <p:cNvGrpSpPr/>
            <p:nvPr/>
          </p:nvGrpSpPr>
          <p:grpSpPr>
            <a:xfrm>
              <a:off x="3568680" y="2947680"/>
              <a:ext cx="2602080" cy="1587600"/>
              <a:chOff x="3568680" y="2947680"/>
              <a:chExt cx="2602080" cy="1587600"/>
            </a:xfrm>
          </p:grpSpPr>
          <p:sp>
            <p:nvSpPr>
              <p:cNvPr id="396" name=""/>
              <p:cNvSpPr/>
              <p:nvPr/>
            </p:nvSpPr>
            <p:spPr>
              <a:xfrm>
                <a:off x="3568680" y="2947680"/>
                <a:ext cx="2602080" cy="1587600"/>
              </a:xfrm>
              <a:custGeom>
                <a:avLst/>
                <a:gdLst/>
                <a:ahLst/>
                <a:rect l="l" t="t" r="r" b="b"/>
                <a:pathLst>
                  <a:path w="7234" h="4412">
                    <a:moveTo>
                      <a:pt x="3616" y="0"/>
                    </a:moveTo>
                    <a:cubicBezTo>
                      <a:pt x="1643" y="0"/>
                      <a:pt x="0" y="250"/>
                      <a:pt x="0" y="551"/>
                    </a:cubicBezTo>
                    <a:lnTo>
                      <a:pt x="0" y="3859"/>
                    </a:lnTo>
                    <a:cubicBezTo>
                      <a:pt x="0" y="4160"/>
                      <a:pt x="1643" y="4411"/>
                      <a:pt x="3616" y="4411"/>
                    </a:cubicBezTo>
                    <a:cubicBezTo>
                      <a:pt x="5589" y="4411"/>
                      <a:pt x="7233" y="4160"/>
                      <a:pt x="7233" y="3859"/>
                    </a:cubicBezTo>
                    <a:lnTo>
                      <a:pt x="7233" y="551"/>
                    </a:lnTo>
                    <a:cubicBezTo>
                      <a:pt x="7233" y="250"/>
                      <a:pt x="5589" y="0"/>
                      <a:pt x="3616" y="0"/>
                    </a:cubicBezTo>
                    <a:lnTo>
                      <a:pt x="3616" y="0"/>
                    </a:ln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  <a:effectLst>
                <a:outerShdw dist="53966" dir="2700000" blurRad="0" rotWithShape="0">
                  <a:srgbClr val="00004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68680" y="2947680"/>
                <a:ext cx="2602080" cy="396360"/>
              </a:xfrm>
              <a:custGeom>
                <a:avLst/>
                <a:gdLst/>
                <a:ahLst/>
                <a:rect l="l" t="t" r="r" b="b"/>
                <a:pathLst>
                  <a:path w="7234" h="1103">
                    <a:moveTo>
                      <a:pt x="3616" y="0"/>
                    </a:moveTo>
                    <a:cubicBezTo>
                      <a:pt x="1643" y="0"/>
                      <a:pt x="0" y="250"/>
                      <a:pt x="0" y="551"/>
                    </a:cubicBezTo>
                    <a:cubicBezTo>
                      <a:pt x="0" y="852"/>
                      <a:pt x="1643" y="1102"/>
                      <a:pt x="3616" y="1102"/>
                    </a:cubicBezTo>
                    <a:cubicBezTo>
                      <a:pt x="5589" y="1102"/>
                      <a:pt x="7233" y="852"/>
                      <a:pt x="7233" y="551"/>
                    </a:cubicBezTo>
                    <a:cubicBezTo>
                      <a:pt x="7233" y="250"/>
                      <a:pt x="5589" y="0"/>
                      <a:pt x="3616" y="0"/>
                    </a:cubicBezTo>
                    <a:lnTo>
                      <a:pt x="3616" y="0"/>
                    </a:ln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  <a:effectLst>
                <a:outerShdw dist="53966" dir="2700000" blurRad="0" rotWithShape="0">
                  <a:srgbClr val="00004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3568680" y="2819880"/>
              <a:ext cx="260352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Systems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Biology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743200" y="1525680"/>
            <a:ext cx="1674720" cy="912600"/>
            <a:chOff x="2743200" y="1525680"/>
            <a:chExt cx="1674720" cy="912600"/>
          </a:xfrm>
        </p:grpSpPr>
        <p:sp>
          <p:nvSpPr>
            <p:cNvPr id="400" name=""/>
            <p:cNvSpPr/>
            <p:nvPr/>
          </p:nvSpPr>
          <p:spPr>
            <a:xfrm>
              <a:off x="2743200" y="1525680"/>
              <a:ext cx="1674720" cy="912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93600" y="1576080"/>
              <a:ext cx="157320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nomic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362320" y="5259240"/>
            <a:ext cx="1752120" cy="912960"/>
            <a:chOff x="2362320" y="5259240"/>
            <a:chExt cx="1752120" cy="912960"/>
          </a:xfrm>
        </p:grpSpPr>
        <p:sp>
          <p:nvSpPr>
            <p:cNvPr id="403" name=""/>
            <p:cNvSpPr/>
            <p:nvPr/>
          </p:nvSpPr>
          <p:spPr>
            <a:xfrm>
              <a:off x="2362320" y="5259240"/>
              <a:ext cx="1752120" cy="912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15240" y="5309640"/>
              <a:ext cx="1646280" cy="81144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nomic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257800" y="5183280"/>
            <a:ext cx="1674720" cy="912600"/>
            <a:chOff x="5257800" y="5183280"/>
            <a:chExt cx="1674720" cy="912600"/>
          </a:xfrm>
        </p:grpSpPr>
        <p:sp>
          <p:nvSpPr>
            <p:cNvPr id="406" name=""/>
            <p:cNvSpPr/>
            <p:nvPr/>
          </p:nvSpPr>
          <p:spPr>
            <a:xfrm>
              <a:off x="5257800" y="5183280"/>
              <a:ext cx="1674720" cy="9126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08200" y="5233680"/>
              <a:ext cx="157320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Meta-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bolomics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181480" y="1525680"/>
            <a:ext cx="1904760" cy="912600"/>
            <a:chOff x="5181480" y="1525680"/>
            <a:chExt cx="1904760" cy="912600"/>
          </a:xfrm>
        </p:grpSpPr>
        <p:sp>
          <p:nvSpPr>
            <p:cNvPr id="409" name=""/>
            <p:cNvSpPr/>
            <p:nvPr/>
          </p:nvSpPr>
          <p:spPr>
            <a:xfrm>
              <a:off x="5181480" y="1525680"/>
              <a:ext cx="1904760" cy="912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39080" y="1576080"/>
              <a:ext cx="178956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teomics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477120" y="3887640"/>
            <a:ext cx="1674720" cy="912960"/>
            <a:chOff x="6477120" y="3887640"/>
            <a:chExt cx="1674720" cy="912960"/>
          </a:xfrm>
        </p:grpSpPr>
        <p:sp>
          <p:nvSpPr>
            <p:cNvPr id="412" name=""/>
            <p:cNvSpPr/>
            <p:nvPr/>
          </p:nvSpPr>
          <p:spPr>
            <a:xfrm>
              <a:off x="6477120" y="3887640"/>
              <a:ext cx="1674720" cy="912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27520" y="3938040"/>
              <a:ext cx="1573200" cy="81144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harmaco-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nomic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143000" y="2668680"/>
            <a:ext cx="1674720" cy="912600"/>
            <a:chOff x="1143000" y="2668680"/>
            <a:chExt cx="1674720" cy="912600"/>
          </a:xfrm>
        </p:grpSpPr>
        <p:sp>
          <p:nvSpPr>
            <p:cNvPr id="415" name=""/>
            <p:cNvSpPr/>
            <p:nvPr/>
          </p:nvSpPr>
          <p:spPr>
            <a:xfrm>
              <a:off x="1143000" y="2668680"/>
              <a:ext cx="1674720" cy="912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93400" y="2719080"/>
              <a:ext cx="157320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62120" y="4192560"/>
            <a:ext cx="1674720" cy="912960"/>
            <a:chOff x="762120" y="4192560"/>
            <a:chExt cx="1674720" cy="912960"/>
          </a:xfrm>
        </p:grpSpPr>
        <p:sp>
          <p:nvSpPr>
            <p:cNvPr id="418" name=""/>
            <p:cNvSpPr/>
            <p:nvPr/>
          </p:nvSpPr>
          <p:spPr>
            <a:xfrm>
              <a:off x="762120" y="4192560"/>
              <a:ext cx="1674720" cy="9129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2520" y="4242960"/>
              <a:ext cx="1573200" cy="81144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400800" y="2668680"/>
            <a:ext cx="1674720" cy="912600"/>
            <a:chOff x="6400800" y="2668680"/>
            <a:chExt cx="1674720" cy="912600"/>
          </a:xfrm>
        </p:grpSpPr>
        <p:sp>
          <p:nvSpPr>
            <p:cNvPr id="421" name=""/>
            <p:cNvSpPr/>
            <p:nvPr/>
          </p:nvSpPr>
          <p:spPr>
            <a:xfrm>
              <a:off x="6400800" y="2668680"/>
              <a:ext cx="1674720" cy="912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200" y="2719080"/>
              <a:ext cx="157320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athway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NSF Program Goal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2286000"/>
            <a:ext cx="784872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cre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new type of organization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yberinfrastructure collaborative for plant scienc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nable new conceptual advances through integrative, computational thinking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ddress an evolving array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nd challenge qu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lant science: the driving force and organizing principles for the collaborati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FE631E50-B236-4012-8E2B-8B45B04632E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3822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The paradigm shif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1905120"/>
            <a:ext cx="883908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lassic paradigm: You produce data, analyze, interpret (end to en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ventional paradigm: Consortium/centers produce data and you consume 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ew Paradigm: Consortium/centers have produced data and creating “cyber infrastructure” to tackle the “grand challenge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"/>
          <p:cNvSpPr/>
          <p:nvPr/>
        </p:nvSpPr>
        <p:spPr>
          <a:xfrm>
            <a:off x="1046160" y="325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501920" y="38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"/>
          <p:cNvSpPr/>
          <p:nvPr/>
        </p:nvSpPr>
        <p:spPr>
          <a:xfrm>
            <a:off x="2822760" y="382680"/>
            <a:ext cx="36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5d1d7"/>
                </a:solidFill>
                <a:latin typeface="Calibri"/>
              </a:rPr>
              <a:t>Data Preservation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Content Placeholder 2"/>
          <p:cNvSpPr/>
          <p:nvPr/>
        </p:nvSpPr>
        <p:spPr>
          <a:xfrm>
            <a:off x="1866960" y="2286000"/>
            <a:ext cx="5410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sing data issues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Typical data management bottle necks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Understanding data and information life cycle management for each grand challeng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an we create a unified approach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an the solution scale with complexity 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501920" y="38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"/>
          <p:cNvSpPr/>
          <p:nvPr/>
        </p:nvSpPr>
        <p:spPr>
          <a:xfrm>
            <a:off x="3430080" y="3859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d1d7"/>
                </a:solidFill>
                <a:latin typeface="Arial"/>
              </a:rPr>
              <a:t>iPlant Eff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Content Placeholder 2"/>
          <p:cNvSpPr/>
          <p:nvPr/>
        </p:nvSpPr>
        <p:spPr>
          <a:xfrm>
            <a:off x="1866960" y="2286000"/>
            <a:ext cx="5410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approach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Leveraging virtualized infrastructure  (snap shot/hibernate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Using checkpoint/restart for migration of data and active workflow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Make transition to and across HPC resources more transpar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Beg, borrow from exemplar open source projects (and contribute back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Learn best practices from other communit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Acknowledgement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60FC1098-6E39-4C34-88F3-CB27F0A0F91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1320" y="1828440"/>
            <a:ext cx="267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University of Arizo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eve Gof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tha Nar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rla Gend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dha R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eg Andr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e Br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icki Chand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rav Merch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eve Rounsl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d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5330160" y="1835280"/>
            <a:ext cx="2923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ast Main Educational Consul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rbara Heath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Content Placeholder 2"/>
          <p:cNvSpPr/>
          <p:nvPr/>
        </p:nvSpPr>
        <p:spPr>
          <a:xfrm>
            <a:off x="2133720" y="1828800"/>
            <a:ext cx="3886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ld Spring Harbor Laborator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incoln Stei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att Vaugh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heldon McKa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reen Wa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ave Micklo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ob Martienss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rizona St Univ / Texas Adv Comp Ct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an Stanzion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urdue Universit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becca Doerg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University of North Carolina-Wilmingt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nn Staplet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330880" y="2666880"/>
            <a:ext cx="3813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imple Semantic Architecture and Protoco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Gary Schiltz, Greg May and alumni at NCGR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hris Town and alumni at JCV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incoln Stein, Doreen Ware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nd Shuly Avraham at CS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x Nelson, David Grant, and alumni at IS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We gratefully acknowledge NSF funding 0516487 to DDG and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USDA ARS funding 3625-21000-038-01 to Greg May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The iPlant Collaborative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14360" y="2209680"/>
            <a:ext cx="6515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national project funded by NS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$50M for 5 years (with possibility to renew for an additional 5 years)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Led by the University of Arizona (BIO5 Institute)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artners: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d Spring Harbor Labora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xas Advanced Computing Cen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orth Carolina, Wilming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rdue Univers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ommunity-appointed Board of Director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ir: Robert Last, Michigan State Univers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Grand Challenge drive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73CBAFE6-8CB4-4CE1-AB04-81823C52792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iPlant Objective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2286000"/>
            <a:ext cx="784872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ster computational thinking in biolog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via biologists working with computer scientists, to integrate computational approaches and human crea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 by, for, and of the commun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nable the research community to identify the major problems in plant science, then develop &amp; pursue needed CI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y at the frontier of plant biology and computer sci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ck and implement latest technologies, concepts and strategies in relevant fie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CAE9A435-D697-4FE2-ADF5-3FDC9CEF93E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iPlant Education and Outreach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866960" y="228564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pare the next gene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Train scientists to use the cyberinfrastructure 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romote innovative, interdisciplinary research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rovide diverse mechanisms for training and educa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Engage K-12 students to career scientist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B515AFE7-AD87-4C9C-B97C-363CC0E98B2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Grand Challenge Proposal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ACFCE3E3-CB11-463F-B942-986511FB91A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74800" y="2021040"/>
            <a:ext cx="739440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ing genotypes with phenotypes (two proposal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lant responses to the environment; adaptation to a changing climate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ree of Life for all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Up to 500,000 specie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tosynthetic efficiency and the use of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Evolution of C3 (more ancient) to C4 (more efficient; requires more energy) 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ing plant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omputational morphodynamic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of taxonomic and ecological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What grows where and why”; strong geospatial component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Selected Grand Challenge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AFE7E9B2-18D1-49B8-AA15-AFB4D3B01F2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74800" y="2021040"/>
            <a:ext cx="739440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ylogenetic relationships among species (iPTo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Massively large (500,000) species tree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Ancestral character state reconstruc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Gene/species tree reconcilia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otype to Phenotype (Gen2Ph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henological quantitative modeling for Arabidopsi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The effect of multi-scale, abiotic and biotic stress factors on plant phenotype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Effect of climate factors on plant diversity and ecological organiza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A Unified Cyberinfrastructure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BC33F20A-9776-43C7-B0BD-98D7081AC72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4440" y="2021040"/>
            <a:ext cx="758340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nstantly evolving software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A single “core” architecture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An ever-growing collection of many integrated tools and data sets, many external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Transparent leveraging of a national computational resource infrastructure (clouds, the TeraGrid, etc.)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izable Discovery Environments (DE) for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ross-tool integra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Utilizing common core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Several DE’s may exist to address a single Grand Challenge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b9899"/>
                </a:solidFill>
                <a:latin typeface="Calibri"/>
              </a:rPr>
              <a:t>From Genes to Genomes</a:t>
            </a:r>
            <a:endParaRPr b="0" lang="en-US" sz="29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359" name="Text Placeholder 12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638680" cy="4173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60" name=""/>
          <p:cNvSpPr/>
          <p:nvPr/>
        </p:nvSpPr>
        <p:spPr>
          <a:xfrm>
            <a:off x="5643360" y="63388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x Babin,  Sacramento Be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9:53:29Z</dcterms:created>
  <dc:creator>Damian Gessler</dc:creator>
  <dc:description/>
  <dc:language>en-US</dc:language>
  <cp:lastModifiedBy>Nirav Merchant</cp:lastModifiedBy>
  <dcterms:modified xsi:type="dcterms:W3CDTF">2009-07-08T19:57:44Z</dcterms:modified>
  <cp:revision>32</cp:revision>
  <dc:subject/>
  <dc:title>Slide 1</dc:title>
</cp:coreProperties>
</file>